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6102-0283-4F39-8AFF-1E52B3B9DE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0190-B1FE-41E1-8138-42219604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5A01-D5C2-4FCE-951D-75C62CC7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A685-54CD-480F-8DDF-459C154B75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42532-EC7B-49F5-9883-D39C557A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BE424-7E7A-41F4-AAD2-1A9C44D4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2FD0F-7438-43E0-8D8E-7EFCF369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BE3B2-E1EF-4A78-A47A-E49DC1D9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FEC2F-2B0F-4A9E-80CC-9E665B2A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CFE63-DFFC-4221-B38B-491FF2EE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F307C-7F9D-4121-A3B5-C17E0A1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0539-0423-4485-9B0E-C671D548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7705B-BD96-4D5F-8A9F-E4838FE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9699C-0BF8-48DC-8E51-1138D539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404CD-FC67-4BF0-AB85-B21D32D6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59638-F907-4DB3-B1C0-7AB4CA26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2183F-58BA-4A86-A750-A55FC7BE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FC41-0EAD-4694-AAFD-45BD17A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C643-22B7-4607-81F0-6CF6A5B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B42F-D16B-4BAF-8D5E-E5A64697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5699-CF86-41B1-A296-A3A4238F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FF54-3D92-47B7-8A56-350E2567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E7DF-6D7A-4A63-A6C8-2DD4A33C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DD8C-86E9-4B78-8C0E-815EB291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2021040"/>
                  <a:gd name="textAreaBottom" fmla="*/ 2021400 h 2021040"/>
                </a:gdLst>
                <a:ahLst/>
                <a:rect l="textAreaLeft" t="textAreaTop" r="textAreaRight" b="textAreaBottom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669960"/>
                    <a:gd name="textAreaBottom" fmla="*/ 669960 h 669960"/>
                  </a:gdLst>
                  <a:ahLst/>
                  <a:rect l="textAreaLeft" t="textAreaTop" r="textAreaRight" b="textAreaBottom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>
                    <a:gd name="textAreaLeft" fmla="*/ 0 w 1241280"/>
                    <a:gd name="textAreaRight" fmla="*/ 1241640 w 1241280"/>
                    <a:gd name="textAreaTop" fmla="*/ 0 h 878040"/>
                    <a:gd name="textAreaBottom" fmla="*/ 878400 h 878040"/>
                  </a:gdLst>
                  <a:ahLst/>
                  <a:rect l="textAreaLeft" t="textAreaTop" r="textAreaRight" b="textAreaBottom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5F2C-A67F-4C4A-9BB7-4F34994A43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B198-2DB1-4637-ADEA-AF2848DA5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Eleventh Edition, (c) 2018 Pearson Education, Lt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2809800"/>
                    <a:gd name="textAreaBottom" fmla="*/ 2810160 h 2809800"/>
                  </a:gdLst>
                  <a:ahLst/>
                  <a:rect l="textAreaLeft" t="textAreaTop" r="textAreaRight" b="textAreaBottom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>
                    <a:gd name="textAreaLeft" fmla="*/ 0 w 715680"/>
                    <a:gd name="textAreaRight" fmla="*/ 716040 w 71568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>
                    <a:gd name="textAreaLeft" fmla="*/ 0 w 1728720"/>
                    <a:gd name="textAreaRight" fmla="*/ 1729080 w 1728720"/>
                    <a:gd name="textAreaTop" fmla="*/ 0 h 1220760"/>
                    <a:gd name="textAreaBottom" fmla="*/ 1220760 h 1220760"/>
                  </a:gdLst>
                  <a:ahLst/>
                  <a:rect l="textAreaLeft" t="textAreaTop" r="textAreaRight" b="textAreaBottom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351000"/>
                    <a:gd name="textAreaBottom" fmla="*/ 351360 h 351000"/>
                  </a:gdLst>
                  <a:ahLst/>
                  <a:rect l="textAreaLeft" t="textAreaTop" r="textAreaRight" b="textAreaBottom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325A-19D1-4556-945B-53BD757309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Eleventh Edition, (c) 2018 Pearson Education, Ltd. All rights reserved. 01321308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AF64-22F5-43BA-8C0F-1255DAC6C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1B49-5EB9-473C-9D60-E3B549625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umber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28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31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36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39"/>
          <p:cNvSpPr/>
          <p:nvPr/>
        </p:nvSpPr>
        <p:spPr>
          <a:xfrm>
            <a:off x="2057400" y="198108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1, 2, 3, 4, 5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, 1, 2, 3, 4, 5, 6, 7, 8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, 1, 2, 3, 4, 5, 6, 7, 8, 9, A, B, C, D, E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42"/>
          <p:cNvSpPr/>
          <p:nvPr/>
        </p:nvSpPr>
        <p:spPr>
          <a:xfrm>
            <a:off x="304920" y="2743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43"/>
          <p:cNvSpPr/>
          <p:nvPr/>
        </p:nvSpPr>
        <p:spPr>
          <a:xfrm>
            <a:off x="304920" y="3429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044"/>
          <p:cNvSpPr/>
          <p:nvPr/>
        </p:nvSpPr>
        <p:spPr>
          <a:xfrm>
            <a:off x="304920" y="4191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45"/>
          <p:cNvSpPr/>
          <p:nvPr/>
        </p:nvSpPr>
        <p:spPr>
          <a:xfrm>
            <a:off x="152280" y="152280"/>
            <a:ext cx="1371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endix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7559-5DFE-43BD-8E3A-2E9EABB81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xadecim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28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29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30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031"/>
          <p:cNvSpPr/>
          <p:nvPr/>
        </p:nvSpPr>
        <p:spPr>
          <a:xfrm>
            <a:off x="24051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032"/>
          <p:cNvSpPr/>
          <p:nvPr/>
        </p:nvSpPr>
        <p:spPr>
          <a:xfrm>
            <a:off x="304920" y="1371600"/>
            <a:ext cx="2590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       0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       1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       2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1       3      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       4      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1       5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0       6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1       7    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      8        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       9   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      A     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1      B     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      C 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1      D     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0      E     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      F     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33"/>
          <p:cNvSpPr/>
          <p:nvPr/>
        </p:nvSpPr>
        <p:spPr>
          <a:xfrm>
            <a:off x="3772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34"/>
          <p:cNvSpPr/>
          <p:nvPr/>
        </p:nvSpPr>
        <p:spPr>
          <a:xfrm>
            <a:off x="304920" y="9144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  Hex   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35"/>
          <p:cNvSpPr/>
          <p:nvPr/>
        </p:nvSpPr>
        <p:spPr>
          <a:xfrm>
            <a:off x="3429000" y="1066680"/>
            <a:ext cx="51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o convert a hexadecimal number to a binary number, simply convert each digit in the hexadecimal number into a four-digit binary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36"/>
          <p:cNvSpPr/>
          <p:nvPr/>
        </p:nvSpPr>
        <p:spPr>
          <a:xfrm>
            <a:off x="3429000" y="2590920"/>
            <a:ext cx="51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o convert a binary number to a hexadecimal, convert every four binary digits from right to left in the binary number into a hexadecimal number.  For examp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38"/>
          <p:cNvSpPr/>
          <p:nvPr/>
        </p:nvSpPr>
        <p:spPr>
          <a:xfrm>
            <a:off x="3800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1037"/>
          <p:cNvGraphicFramePr/>
          <p:nvPr/>
        </p:nvGraphicFramePr>
        <p:xfrm>
          <a:off x="4419720" y="4038480"/>
          <a:ext cx="32004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0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200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4871-B2CF-421C-8628-E86008DC5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umber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052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053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54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055"/>
          <p:cNvSpPr/>
          <p:nvPr/>
        </p:nvSpPr>
        <p:spPr>
          <a:xfrm>
            <a:off x="228600" y="114300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use binary numbers internally because storage devices like memory and disk are made to store 0s and 1s. A number or a text inside a computer is stored as a sequence of 0s and 1s. Each 0 and 1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or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y dig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binary number system has two digits, 0 an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inary numbers are not intuitive, since we use decimal numbers in our daily life. When you write a number like 20 in a program, it is assumed to be a decimal number. Internally, computer software is used to convert decimal numbers into binary numbers, and vice ver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E8C2-BB2C-4DB1-BC0B-436D66CAE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umber System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27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28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29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30"/>
          <p:cNvSpPr/>
          <p:nvPr/>
        </p:nvSpPr>
        <p:spPr>
          <a:xfrm>
            <a:off x="228600" y="91440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gits in the decimal number system are 0, 1, 2, 3, 4, 5, 6, 7, 8, and 9. A decimal number is represented using a sequence of one or more of these digits. The value that each digit in the sequence represents depends on its position. A position in a sequence has a value that is an integral power of 10. For example, the digits 7, 4, 2, and 3 in decimal number 7423 represent 7000, 400, 20, and 3, respectively, as show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mal number system has ten digits and the position values are integral powers of 10. We say that 10 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d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decimal number system. Similarly, the base of the binary number system is 2 since the binary number system has two digits and the base of the hex number system is 16 since the hex number system has sixteen dig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031"/>
          <p:cNvGraphicFramePr/>
          <p:nvPr/>
        </p:nvGraphicFramePr>
        <p:xfrm>
          <a:off x="4419720" y="3352680"/>
          <a:ext cx="36036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352680"/>
                    <a:ext cx="36036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D41-D724-41EF-AB78-2651DE64B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umber System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28600" y="1066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inary numbers tend to be very long and cumbersome. Hexadecimal numbers are often used to abbreviate binary numbers. The hexadecimal number system has 16 digits: 0, 1, 2, 3, 4, 5, 6, 7, 8, 9, A, B, C, D, E, and F. The letters A, B, C, D, E, and F correspond to the decimal numbers 10, 11, 12, 13, 14, and 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5E33-93B4-462A-9945-A23E20060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inary Numbers =&gt; Dec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27"/>
          <p:cNvSpPr/>
          <p:nvPr/>
        </p:nvSpPr>
        <p:spPr>
          <a:xfrm>
            <a:off x="304920" y="12193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 binary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quivalent decimal value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8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0"/>
          <p:cNvSpPr/>
          <p:nvPr/>
        </p:nvSpPr>
        <p:spPr>
          <a:xfrm>
            <a:off x="457200" y="3505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31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33"/>
          <p:cNvSpPr/>
          <p:nvPr/>
        </p:nvSpPr>
        <p:spPr>
          <a:xfrm>
            <a:off x="4495680" y="3505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34"/>
          <p:cNvSpPr/>
          <p:nvPr/>
        </p:nvSpPr>
        <p:spPr>
          <a:xfrm>
            <a:off x="0" y="4267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35"/>
          <p:cNvSpPr/>
          <p:nvPr/>
        </p:nvSpPr>
        <p:spPr>
          <a:xfrm>
            <a:off x="5562720" y="4267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36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40"/>
          <p:cNvSpPr/>
          <p:nvPr/>
        </p:nvSpPr>
        <p:spPr>
          <a:xfrm>
            <a:off x="40384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039"/>
              <p:cNvSpPr txBox="1"/>
              <p:nvPr/>
            </p:nvSpPr>
            <p:spPr>
              <a:xfrm>
                <a:off x="3352680" y="1243080"/>
                <a:ext cx="24386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1</m:t>
                    </m:r>
                    <m:r>
                      <m:t xml:space="preserve">b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1042"/>
          <p:cNvSpPr/>
          <p:nvPr/>
        </p:nvSpPr>
        <p:spPr>
          <a:xfrm>
            <a:off x="27288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041"/>
              <p:cNvSpPr txBox="1"/>
              <p:nvPr/>
            </p:nvSpPr>
            <p:spPr>
              <a:xfrm>
                <a:off x="838080" y="2286000"/>
                <a:ext cx="7543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6" name="Rectangle 1086"/>
          <p:cNvSpPr/>
          <p:nvPr/>
        </p:nvSpPr>
        <p:spPr>
          <a:xfrm>
            <a:off x="42861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085"/>
              <p:cNvSpPr txBox="1"/>
              <p:nvPr/>
            </p:nvSpPr>
            <p:spPr>
              <a:xfrm>
                <a:off x="2743200" y="3429000"/>
                <a:ext cx="14479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088"/>
          <p:cNvSpPr/>
          <p:nvPr/>
        </p:nvSpPr>
        <p:spPr>
          <a:xfrm>
            <a:off x="38336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87"/>
              <p:cNvSpPr txBox="1"/>
              <p:nvPr/>
            </p:nvSpPr>
            <p:spPr>
              <a:xfrm>
                <a:off x="2514600" y="4343400"/>
                <a:ext cx="2743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089"/>
          <p:cNvSpPr/>
          <p:nvPr/>
        </p:nvSpPr>
        <p:spPr>
          <a:xfrm>
            <a:off x="304920" y="5029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1010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90"/>
          <p:cNvSpPr/>
          <p:nvPr/>
        </p:nvSpPr>
        <p:spPr>
          <a:xfrm>
            <a:off x="6934320" y="5181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93"/>
          <p:cNvSpPr/>
          <p:nvPr/>
        </p:nvSpPr>
        <p:spPr>
          <a:xfrm>
            <a:off x="29574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092"/>
              <p:cNvSpPr txBox="1"/>
              <p:nvPr/>
            </p:nvSpPr>
            <p:spPr>
              <a:xfrm>
                <a:off x="1981080" y="5334120"/>
                <a:ext cx="4800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A48E-B0F7-46B4-8A88-CC725FF94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cim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in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7"/>
          <p:cNvSpPr/>
          <p:nvPr/>
        </p:nvSpPr>
        <p:spPr>
          <a:xfrm>
            <a:off x="304920" y="10666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a decimal number d to a binary number is to find the binary digits..                                       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28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29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30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1"/>
          <p:cNvSpPr/>
          <p:nvPr/>
        </p:nvSpPr>
        <p:spPr>
          <a:xfrm>
            <a:off x="24051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3"/>
          <p:cNvSpPr/>
          <p:nvPr/>
        </p:nvSpPr>
        <p:spPr>
          <a:xfrm>
            <a:off x="304920" y="274320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numbers can be found by successively dividing d by 2 until the quotient is 0. The remainders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decimal number 123 is 1111011 in binary. The conversion is conducted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034"/>
          <p:cNvSpPr/>
          <p:nvPr/>
        </p:nvSpPr>
        <p:spPr>
          <a:xfrm>
            <a:off x="3772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036"/>
              <p:cNvSpPr txBox="1"/>
              <p:nvPr/>
            </p:nvSpPr>
            <p:spPr>
              <a:xfrm>
                <a:off x="2133720" y="1523880"/>
                <a:ext cx="2728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1039"/>
          <p:cNvSpPr/>
          <p:nvPr/>
        </p:nvSpPr>
        <p:spPr>
          <a:xfrm>
            <a:off x="2604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038"/>
              <p:cNvSpPr txBox="1"/>
              <p:nvPr/>
            </p:nvSpPr>
            <p:spPr>
              <a:xfrm>
                <a:off x="380880" y="2133720"/>
                <a:ext cx="79250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41"/>
              <p:cNvSpPr txBox="1"/>
              <p:nvPr/>
            </p:nvSpPr>
            <p:spPr>
              <a:xfrm>
                <a:off x="3048120" y="3124080"/>
                <a:ext cx="23619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043"/>
          <p:cNvSpPr/>
          <p:nvPr/>
        </p:nvSpPr>
        <p:spPr>
          <a:xfrm>
            <a:off x="174312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45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1044"/>
          <p:cNvGraphicFramePr/>
          <p:nvPr/>
        </p:nvGraphicFramePr>
        <p:xfrm>
          <a:off x="380880" y="4495680"/>
          <a:ext cx="822960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495680"/>
                    <a:ext cx="822960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5917-B324-4D4E-B656-7F095F0F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dows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27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28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29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533520" y="9144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Windows Calculator is a useful tool for performing number conversions. To run it,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ccesso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lc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from the Start butt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2"/>
          <p:cNvSpPr/>
          <p:nvPr/>
        </p:nvSpPr>
        <p:spPr>
          <a:xfrm>
            <a:off x="228600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031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248520" cy="40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4D6D-F174-4175-BB28-DF6A5D9CC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xadecimals =&gt; Dec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304920" y="121932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exadecimal number system has sixteen digits: 0, 1, 2, 3, 4, 5, 6, 7, 8, 9, A, B, C, D, E, and F. The letters A, B, C, D, E, and F correspond to the decimal numbers 10, 11, 12, 13, 14, and 15. Given a hexadecimal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quivalent decimal value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28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029"/>
              <p:cNvSpPr txBox="1"/>
              <p:nvPr/>
            </p:nvSpPr>
            <p:spPr>
              <a:xfrm>
                <a:off x="569880" y="3429000"/>
                <a:ext cx="7850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4" name="Rectangle 1030"/>
          <p:cNvSpPr/>
          <p:nvPr/>
        </p:nvSpPr>
        <p:spPr>
          <a:xfrm>
            <a:off x="7621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h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31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32"/>
              <p:cNvSpPr txBox="1"/>
              <p:nvPr/>
            </p:nvSpPr>
            <p:spPr>
              <a:xfrm>
                <a:off x="2895480" y="4267080"/>
                <a:ext cx="1905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1033"/>
          <p:cNvSpPr/>
          <p:nvPr/>
        </p:nvSpPr>
        <p:spPr>
          <a:xfrm>
            <a:off x="4876920" y="4343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1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34"/>
          <p:cNvSpPr/>
          <p:nvPr/>
        </p:nvSpPr>
        <p:spPr>
          <a:xfrm>
            <a:off x="30492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F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h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35"/>
          <p:cNvSpPr/>
          <p:nvPr/>
        </p:nvSpPr>
        <p:spPr>
          <a:xfrm>
            <a:off x="60958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655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036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37"/>
              <p:cNvSpPr txBox="1"/>
              <p:nvPr/>
            </p:nvSpPr>
            <p:spPr>
              <a:xfrm>
                <a:off x="2286000" y="5105520"/>
                <a:ext cx="3657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038"/>
              <p:cNvSpPr txBox="1"/>
              <p:nvPr/>
            </p:nvSpPr>
            <p:spPr>
              <a:xfrm>
                <a:off x="4114800" y="2362320"/>
                <a:ext cx="2146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32FF-2E37-4E3C-8890-1F75DDD53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cim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xadecim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04920" y="1371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a decimal number d to a hexadecimal number is to find the hexadecimal digits hn, hn-1, hn-2, ...          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25383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214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6194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4051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457200" y="2438280"/>
                <a:ext cx="83818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1" name="Text Box 9"/>
          <p:cNvSpPr/>
          <p:nvPr/>
        </p:nvSpPr>
        <p:spPr>
          <a:xfrm>
            <a:off x="304920" y="320040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numbers can be found by successively dividing d by 16 until the quotient is 0. The remainde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29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decimal number 123 is 7B in hexadecimal. The conversion is conduct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3772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2"/>
              <p:cNvSpPr txBox="1"/>
              <p:nvPr/>
            </p:nvSpPr>
            <p:spPr>
              <a:xfrm>
                <a:off x="3200400" y="1828800"/>
                <a:ext cx="2778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3"/>
              <p:cNvSpPr txBox="1"/>
              <p:nvPr/>
            </p:nvSpPr>
            <p:spPr>
              <a:xfrm>
                <a:off x="380880" y="4343400"/>
                <a:ext cx="2778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14"/>
          <p:cNvGraphicFramePr/>
          <p:nvPr/>
        </p:nvGraphicFramePr>
        <p:xfrm>
          <a:off x="5410080" y="3657600"/>
          <a:ext cx="37339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657600"/>
                    <a:ext cx="3733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dmin</cp:lastModifiedBy>
  <cp:lastPrinted>1998-02-24T16:19:51Z</cp:lastPrinted>
  <dcterms:modified xsi:type="dcterms:W3CDTF">2018-02-09T07:49:57Z</dcterms:modified>
  <cp:revision>192</cp:revision>
  <dc:subject/>
  <dc:title>Chapter 1 Introduction to Java</dc:title>
</cp:coreProperties>
</file>