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2.wmf" ContentType="image/x-wmf"/>
  <Override PartName="/ppt/media/image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4D49-BB7E-434A-A9B7-D6A6FFA303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E7A6-5860-47CF-B2F3-833367C3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EC77-B1C8-4F5C-9DC6-D897FCF1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A4A9-9026-47DD-AC32-10A2D1A3FC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84F76-6BC0-44F6-B3A4-BB27C66F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42929-6AB3-48E5-942E-8A7D07E0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8E141-AC16-4FBD-AC35-5DED04E1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6E44A-B2A3-470B-B633-5574BCCD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9C95D-B12C-43CC-A6D9-2FCC5394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E3579-1620-4B9C-96C6-FB8ED2B7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E348A-1AAE-4B5A-BE23-10A546C1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FEFD-12C2-4EE4-B487-D4894712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3D06E-4ECD-4A23-B44A-CD3FECB8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B1E69-1775-4DFB-88CE-A2249535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58F7A-F502-48E8-961A-61B5E561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8BC79-D60E-467C-BDC3-A20F43EF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C57FF-553D-4C6E-988F-D8D60993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1BF5-389E-4D94-B20B-6E7D638B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5493-0553-4541-BC56-DC67671B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EF18-EF53-424F-A2FB-15E0935D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66B4-E330-4758-9C1D-24B3090E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FBEA-3FBA-47FC-8C2A-40D6AF42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C43A9-D5CA-415B-A1D7-CBEE1720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A3B5-CF3A-4D64-B683-78A71F05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2021040"/>
                  <a:gd name="textAreaBottom" fmla="*/ 2021400 h 2021040"/>
                </a:gdLst>
                <a:ahLst/>
                <a:rect l="textAreaLeft" t="textAreaTop" r="textAreaRight" b="textAreaBottom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>
                    <a:gd name="textAreaLeft" fmla="*/ 0 w 514080"/>
                    <a:gd name="textAreaRight" fmla="*/ 514440 w 514080"/>
                    <a:gd name="textAreaTop" fmla="*/ 0 h 669960"/>
                    <a:gd name="textAreaBottom" fmla="*/ 669960 h 669960"/>
                  </a:gdLst>
                  <a:ahLst/>
                  <a:rect l="textAreaLeft" t="textAreaTop" r="textAreaRight" b="textAreaBottom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>
                    <a:gd name="textAreaLeft" fmla="*/ 0 w 291960"/>
                    <a:gd name="textAreaRight" fmla="*/ 291960 w 2919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>
                    <a:gd name="textAreaLeft" fmla="*/ 0 w 1241280"/>
                    <a:gd name="textAreaRight" fmla="*/ 1241640 w 1241280"/>
                    <a:gd name="textAreaTop" fmla="*/ 0 h 878040"/>
                    <a:gd name="textAreaBottom" fmla="*/ 878400 h 878040"/>
                  </a:gdLst>
                  <a:ahLst/>
                  <a:rect l="textAreaLeft" t="textAreaTop" r="textAreaRight" b="textAreaBottom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6B05-BF02-4DFE-94DA-E4FD2DC59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1676520" y="6438960"/>
            <a:ext cx="5581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ang, Introduction to Java Programming, Eleventh Edition, (c) 2018 Pearson Education, Ltd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0 h 2809800"/>
                    <a:gd name="textAreaBottom" fmla="*/ 2810160 h 2809800"/>
                  </a:gdLst>
                  <a:ahLst/>
                  <a:rect l="textAreaLeft" t="textAreaTop" r="textAreaRight" b="textAreaBottom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f5f5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>
                    <a:gd name="textAreaLeft" fmla="*/ 0 w 715680"/>
                    <a:gd name="textAreaRight" fmla="*/ 716040 w 71568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>
                    <a:gd name="textAreaLeft" fmla="*/ 0 w 125280"/>
                    <a:gd name="textAreaRight" fmla="*/ 125280 w 12528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>
                    <a:gd name="textAreaLeft" fmla="*/ 0 w 406440"/>
                    <a:gd name="textAreaRight" fmla="*/ 406800 w 40644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>
                    <a:gd name="textAreaLeft" fmla="*/ 0 w 1728720"/>
                    <a:gd name="textAreaRight" fmla="*/ 1729080 w 1728720"/>
                    <a:gd name="textAreaTop" fmla="*/ 0 h 1220760"/>
                    <a:gd name="textAreaBottom" fmla="*/ 1220760 h 1220760"/>
                  </a:gdLst>
                  <a:ahLst/>
                  <a:rect l="textAreaLeft" t="textAreaTop" r="textAreaRight" b="textAreaBottom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>
                    <a:gd name="textAreaLeft" fmla="*/ 0 w 349200"/>
                    <a:gd name="textAreaRight" fmla="*/ 349560 w 34920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351000"/>
                    <a:gd name="textAreaBottom" fmla="*/ 351360 h 351000"/>
                  </a:gdLst>
                  <a:ahLst/>
                  <a:rect l="textAreaLeft" t="textAreaTop" r="textAreaRight" b="textAreaBottom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8120"/>
                    <a:gd name="textAreaBottom" fmla="*/ 168480 h 168120"/>
                  </a:gdLst>
                  <a:ahLst/>
                  <a:rect l="textAreaLeft" t="textAreaTop" r="textAreaRight" b="textAreaBottom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ng, Introduction to Java Programming, Eleventh Edition, (c) 2018 Pearson Education, Ltd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1D94-997E-4301-9B0F-EF1A83533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ml/TestMax.ba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ml/TestVoidMethod.bat" TargetMode="External"/><Relationship Id="rId2" Type="http://schemas.openxmlformats.org/officeDocument/2006/relationships/hyperlink" Target="html/TestReturnGradeMethod.bat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ml/Increment.bat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ml/TestPassByValue.bat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ml/GreatestCommonDivisorMethod.bat" TargetMode="External"/><Relationship Id="rId2" Type="http://schemas.openxmlformats.org/officeDocument/2006/relationships/hyperlink" Target="html/PrimeNumberMethod.bat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ml/Hex2Dec.bat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ml/TestMethodOverloading.bat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ml/MethodDemo.bat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ml/TestRandomCharacter.bat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ml/PrintCalendar.bat" TargetMode="Externa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1FC4-D322-49BA-A2AA-379190258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372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841B-4AD9-4B3B-8BB0-691E5BF5E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0492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s defined in the method header are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l 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08628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771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2085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2085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Object 12"/>
          <p:cNvGraphicFramePr/>
          <p:nvPr/>
        </p:nvGraphicFramePr>
        <p:xfrm>
          <a:off x="231840" y="2546280"/>
          <a:ext cx="864216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46280"/>
                    <a:ext cx="864216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14"/>
          <p:cNvSpPr/>
          <p:nvPr/>
        </p:nvSpPr>
        <p:spPr>
          <a:xfrm>
            <a:off x="5110200" y="3544920"/>
            <a:ext cx="461880" cy="306360"/>
          </a:xfrm>
          <a:prstGeom prst="rect">
            <a:avLst/>
          </a:prstGeom>
          <a:solidFill>
            <a:srgbClr val="cbcbcb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071960" y="3544920"/>
            <a:ext cx="461880" cy="306360"/>
          </a:xfrm>
          <a:prstGeom prst="rect">
            <a:avLst/>
          </a:prstGeom>
          <a:solidFill>
            <a:srgbClr val="cbcbcb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8075-5DE3-4FFE-A3A9-F6FA1D69D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ual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04920" y="1143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method is invoked, you pass a value to the parameter. This value is referred to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ual parameter or argu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08628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2771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085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2085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12"/>
          <p:cNvGraphicFramePr/>
          <p:nvPr/>
        </p:nvGraphicFramePr>
        <p:xfrm>
          <a:off x="231840" y="2546280"/>
          <a:ext cx="864216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46280"/>
                    <a:ext cx="864216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15"/>
          <p:cNvSpPr/>
          <p:nvPr/>
        </p:nvSpPr>
        <p:spPr>
          <a:xfrm>
            <a:off x="7759800" y="3390840"/>
            <a:ext cx="461880" cy="230400"/>
          </a:xfrm>
          <a:prstGeom prst="rect">
            <a:avLst/>
          </a:prstGeom>
          <a:solidFill>
            <a:srgbClr val="cbcbcb">
              <a:alpha val="3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3243-F112-49FE-9A93-3C087BF21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 Value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09600" y="893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hod may return a value.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Value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ata type of the value the method returns. If the method does not return a value,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Value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keywor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For example,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Value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8628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771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2085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2085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12"/>
          <p:cNvGraphicFramePr/>
          <p:nvPr/>
        </p:nvGraphicFramePr>
        <p:xfrm>
          <a:off x="231840" y="2584440"/>
          <a:ext cx="864216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84440"/>
                    <a:ext cx="864216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14"/>
          <p:cNvSpPr/>
          <p:nvPr/>
        </p:nvSpPr>
        <p:spPr>
          <a:xfrm>
            <a:off x="2805120" y="3659040"/>
            <a:ext cx="385920" cy="230400"/>
          </a:xfrm>
          <a:prstGeom prst="rect">
            <a:avLst/>
          </a:prstGeom>
          <a:solidFill>
            <a:srgbClr val="cbcbcb">
              <a:alpha val="3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576440" y="5464080"/>
            <a:ext cx="1382760" cy="230400"/>
          </a:xfrm>
          <a:prstGeom prst="rect">
            <a:avLst/>
          </a:prstGeom>
          <a:solidFill>
            <a:srgbClr val="cbcbcb">
              <a:alpha val="3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87B2-9CA5-4C7F-BBE8-12BFB8A8B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380880" y="1219320"/>
            <a:ext cx="8305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gram demonstrates calling a method max to return the largest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4710240" y="5195880"/>
            <a:ext cx="143964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0">
            <a:hlinkClick r:id="rId1"/>
          </p:cNvPr>
          <p:cNvSpPr/>
          <p:nvPr/>
        </p:nvSpPr>
        <p:spPr>
          <a:xfrm>
            <a:off x="6338880" y="5195880"/>
            <a:ext cx="700200" cy="380880"/>
          </a:xfrm>
          <a:custGeom>
            <a:avLst/>
            <a:gdLst>
              <a:gd name="textAreaLeft" fmla="*/ 24480 w 700200"/>
              <a:gd name="textAreaRight" fmla="*/ 675720 w 7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692" h="21600">
                <a:moveTo>
                  <a:pt x="0" y="0"/>
                </a:moveTo>
                <a:lnTo>
                  <a:pt x="39692" y="0"/>
                </a:lnTo>
                <a:lnTo>
                  <a:pt x="39692" y="21600"/>
                </a:lnTo>
                <a:lnTo>
                  <a:pt x="0" y="21600"/>
                </a:lnTo>
                <a:close/>
              </a:path>
              <a:path fill="lightenLess" w="39692" h="21600">
                <a:moveTo>
                  <a:pt x="0" y="0"/>
                </a:moveTo>
                <a:lnTo>
                  <a:pt x="39692" y="0"/>
                </a:lnTo>
                <a:lnTo>
                  <a:pt x="38292" y="1400"/>
                </a:lnTo>
                <a:lnTo>
                  <a:pt x="1400" y="1400"/>
                </a:lnTo>
                <a:close/>
              </a:path>
              <a:path fill="darken" w="39692" h="21600">
                <a:moveTo>
                  <a:pt x="39692" y="0"/>
                </a:moveTo>
                <a:lnTo>
                  <a:pt x="39692" y="21600"/>
                </a:lnTo>
                <a:lnTo>
                  <a:pt x="38292" y="20200"/>
                </a:lnTo>
                <a:lnTo>
                  <a:pt x="38292" y="1400"/>
                </a:lnTo>
                <a:close/>
              </a:path>
              <a:path fill="darkenLess" w="39692" h="21600">
                <a:moveTo>
                  <a:pt x="3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92" y="20200"/>
                </a:lnTo>
                <a:close/>
              </a:path>
              <a:path fill="lighten" w="3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F4B6-C23F-4FD8-B058-F51BC47BA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ing Method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8"/>
          <p:cNvGraphicFramePr/>
          <p:nvPr/>
        </p:nvGraphicFramePr>
        <p:xfrm>
          <a:off x="228600" y="1676520"/>
          <a:ext cx="8610480" cy="32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61048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F6EC-7FC6-4330-B855-C90CA6E44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Method Inv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Object 5"/>
          <p:cNvGraphicFramePr/>
          <p:nvPr/>
        </p:nvGraphicFramePr>
        <p:xfrm>
          <a:off x="231840" y="1930320"/>
          <a:ext cx="86104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930320"/>
                    <a:ext cx="86104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6"/>
          <p:cNvSpPr/>
          <p:nvPr/>
        </p:nvSpPr>
        <p:spPr>
          <a:xfrm>
            <a:off x="384120" y="2311560"/>
            <a:ext cx="3422880" cy="1774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2690640" y="1201680"/>
            <a:ext cx="3534120" cy="384120"/>
          </a:xfrm>
          <a:prstGeom prst="wedgeRoundRectCallout">
            <a:avLst>
              <a:gd name="adj1" fmla="val -45013"/>
              <a:gd name="adj2" fmla="val 263634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is now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8C4A-BF63-4222-946E-4103F29D8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Method Inv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Object 5"/>
          <p:cNvGraphicFramePr/>
          <p:nvPr/>
        </p:nvGraphicFramePr>
        <p:xfrm>
          <a:off x="231840" y="1930320"/>
          <a:ext cx="86104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930320"/>
                    <a:ext cx="86104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6"/>
          <p:cNvSpPr/>
          <p:nvPr/>
        </p:nvSpPr>
        <p:spPr>
          <a:xfrm>
            <a:off x="385920" y="2468520"/>
            <a:ext cx="3422520" cy="17784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"/>
          <p:cNvSpPr/>
          <p:nvPr/>
        </p:nvSpPr>
        <p:spPr>
          <a:xfrm>
            <a:off x="2690640" y="1201680"/>
            <a:ext cx="3534120" cy="384120"/>
          </a:xfrm>
          <a:prstGeom prst="wedgeRoundRectCallout">
            <a:avLst>
              <a:gd name="adj1" fmla="val -45236"/>
              <a:gd name="adj2" fmla="val 309092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 is now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5130-3533-4E12-8E94-9AB826FD1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Method Inv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Object 5"/>
          <p:cNvGraphicFramePr/>
          <p:nvPr/>
        </p:nvGraphicFramePr>
        <p:xfrm>
          <a:off x="231840" y="1930320"/>
          <a:ext cx="86104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930320"/>
                    <a:ext cx="86104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6"/>
          <p:cNvSpPr/>
          <p:nvPr/>
        </p:nvSpPr>
        <p:spPr>
          <a:xfrm>
            <a:off x="1230480" y="2622600"/>
            <a:ext cx="2577960" cy="17784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2690640" y="1201680"/>
            <a:ext cx="3534120" cy="384120"/>
          </a:xfrm>
          <a:prstGeom prst="wedgeRoundRectCallout">
            <a:avLst>
              <a:gd name="adj1" fmla="val -45236"/>
              <a:gd name="adj2" fmla="val 352064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oke max(i, 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96B0-D81F-42F0-B0C7-815B81C41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Method Inv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Object 5"/>
          <p:cNvGraphicFramePr/>
          <p:nvPr/>
        </p:nvGraphicFramePr>
        <p:xfrm>
          <a:off x="231840" y="1930320"/>
          <a:ext cx="86104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930320"/>
                    <a:ext cx="86104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6"/>
          <p:cNvSpPr/>
          <p:nvPr/>
        </p:nvSpPr>
        <p:spPr>
          <a:xfrm>
            <a:off x="5762520" y="2162160"/>
            <a:ext cx="2578320" cy="17784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2690640" y="932040"/>
            <a:ext cx="3532320" cy="998280"/>
          </a:xfrm>
          <a:prstGeom prst="wedgeRoundRectCallout">
            <a:avLst>
              <a:gd name="adj1" fmla="val 41597"/>
              <a:gd name="adj2" fmla="val 7512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oke max(i, 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 the value of i to nu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 the value of j to nu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8"/>
          <p:cNvSpPr/>
          <p:nvPr/>
        </p:nvSpPr>
        <p:spPr>
          <a:xfrm flipV="1">
            <a:off x="1844640" y="2314440"/>
            <a:ext cx="3994200" cy="384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9C34-53A5-411D-B417-882A9E1C5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Method Inv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231840" y="1930320"/>
          <a:ext cx="86104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930320"/>
                    <a:ext cx="86104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Rectangle 6"/>
          <p:cNvSpPr/>
          <p:nvPr/>
        </p:nvSpPr>
        <p:spPr>
          <a:xfrm>
            <a:off x="4648320" y="2354400"/>
            <a:ext cx="2577960" cy="17784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7"/>
          <p:cNvSpPr/>
          <p:nvPr/>
        </p:nvSpPr>
        <p:spPr>
          <a:xfrm>
            <a:off x="2690640" y="1201680"/>
            <a:ext cx="3534120" cy="384120"/>
          </a:xfrm>
          <a:prstGeom prst="wedgeRoundRectCallout">
            <a:avLst>
              <a:gd name="adj1" fmla="val 44652"/>
              <a:gd name="adj2" fmla="val 263634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lare variable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8"/>
          <p:cNvSpPr/>
          <p:nvPr/>
        </p:nvSpPr>
        <p:spPr>
          <a:xfrm flipV="1">
            <a:off x="1844640" y="2314440"/>
            <a:ext cx="3994200" cy="384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B104-49F8-437A-92DA-E31D8B4C8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3720" y="124920"/>
            <a:ext cx="78804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ning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44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17360" y="971640"/>
            <a:ext cx="88329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sum of integers from 1 to 10, from 20 to 30, and from 35 to 45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074F-40C4-4704-B8F8-95AE91A79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Method Inv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5"/>
          <p:cNvGraphicFramePr/>
          <p:nvPr/>
        </p:nvGraphicFramePr>
        <p:xfrm>
          <a:off x="231840" y="1930320"/>
          <a:ext cx="86104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930320"/>
                    <a:ext cx="86104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6"/>
          <p:cNvSpPr/>
          <p:nvPr/>
        </p:nvSpPr>
        <p:spPr>
          <a:xfrm>
            <a:off x="4648320" y="2622600"/>
            <a:ext cx="2577960" cy="17784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2690640" y="971640"/>
            <a:ext cx="3534120" cy="614160"/>
          </a:xfrm>
          <a:prstGeom prst="wedgeRoundRectCallout">
            <a:avLst>
              <a:gd name="adj1" fmla="val 57592"/>
              <a:gd name="adj2" fmla="val 238888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um1 &gt; num2) is true since num1 is 5 and num2 i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"/>
          <p:cNvSpPr/>
          <p:nvPr/>
        </p:nvSpPr>
        <p:spPr>
          <a:xfrm flipV="1">
            <a:off x="1844640" y="2314440"/>
            <a:ext cx="3994200" cy="384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2D9E-3FBB-4818-83CE-7D18EB81D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Method Inv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231840" y="1930320"/>
          <a:ext cx="86104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930320"/>
                    <a:ext cx="86104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6"/>
          <p:cNvSpPr/>
          <p:nvPr/>
        </p:nvSpPr>
        <p:spPr>
          <a:xfrm>
            <a:off x="4648320" y="2776680"/>
            <a:ext cx="2577960" cy="1774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2690640" y="971640"/>
            <a:ext cx="3534120" cy="614160"/>
          </a:xfrm>
          <a:prstGeom prst="wedgeRoundRectCallout">
            <a:avLst>
              <a:gd name="adj1" fmla="val 60152"/>
              <a:gd name="adj2" fmla="val 266018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 is now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8"/>
          <p:cNvSpPr/>
          <p:nvPr/>
        </p:nvSpPr>
        <p:spPr>
          <a:xfrm flipV="1">
            <a:off x="1844640" y="2314440"/>
            <a:ext cx="3994200" cy="384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8048-3143-4ED0-81A7-7A0878B2F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Method Inv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231840" y="1930320"/>
          <a:ext cx="86104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930320"/>
                    <a:ext cx="86104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6"/>
          <p:cNvSpPr/>
          <p:nvPr/>
        </p:nvSpPr>
        <p:spPr>
          <a:xfrm>
            <a:off x="4648320" y="3390840"/>
            <a:ext cx="2577960" cy="17784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2690640" y="1201680"/>
            <a:ext cx="3534120" cy="384120"/>
          </a:xfrm>
          <a:prstGeom prst="wedgeRoundRectCallout">
            <a:avLst>
              <a:gd name="adj1" fmla="val 7953"/>
              <a:gd name="adj2" fmla="val 531819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result, which is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V="1">
            <a:off x="1844640" y="2314440"/>
            <a:ext cx="3994200" cy="384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0E9E-2EB7-481D-A180-E524E2684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Method Inv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Object 5"/>
          <p:cNvGraphicFramePr/>
          <p:nvPr/>
        </p:nvGraphicFramePr>
        <p:xfrm>
          <a:off x="231840" y="1930320"/>
          <a:ext cx="86104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930320"/>
                    <a:ext cx="86104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6"/>
          <p:cNvSpPr/>
          <p:nvPr/>
        </p:nvSpPr>
        <p:spPr>
          <a:xfrm>
            <a:off x="423720" y="2622600"/>
            <a:ext cx="3384720" cy="17784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2690640" y="932040"/>
            <a:ext cx="3534120" cy="653760"/>
          </a:xfrm>
          <a:prstGeom prst="wedgeRoundRectCallout">
            <a:avLst>
              <a:gd name="adj1" fmla="val -45236"/>
              <a:gd name="adj2" fmla="val 227425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max(i, j) and assign the return value to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"/>
          <p:cNvSpPr/>
          <p:nvPr/>
        </p:nvSpPr>
        <p:spPr>
          <a:xfrm flipH="1" flipV="1">
            <a:off x="1844640" y="2776680"/>
            <a:ext cx="2881440" cy="690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CCC8-13CB-4232-A32F-F2DE74FBB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Method Inv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Object 5"/>
          <p:cNvGraphicFramePr/>
          <p:nvPr/>
        </p:nvGraphicFramePr>
        <p:xfrm>
          <a:off x="231840" y="1930320"/>
          <a:ext cx="86104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930320"/>
                    <a:ext cx="86104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6"/>
          <p:cNvSpPr/>
          <p:nvPr/>
        </p:nvSpPr>
        <p:spPr>
          <a:xfrm>
            <a:off x="423720" y="2968560"/>
            <a:ext cx="3384720" cy="46044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2690640" y="932040"/>
            <a:ext cx="3534120" cy="653760"/>
          </a:xfrm>
          <a:prstGeom prst="wedgeRoundRectCallout">
            <a:avLst>
              <a:gd name="adj1" fmla="val -43398"/>
              <a:gd name="adj2" fmla="val 279611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ute the print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2F27-FF20-4F0F-99C2-453EB1EF4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5560" y="931680"/>
            <a:ext cx="8458200" cy="17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is required for a value-returning method. The method shown below in (a) is logically correct, but it has a compilation error because the Java compiler thinks it possible that this method does not return any val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347760" y="5041800"/>
            <a:ext cx="84582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x this problem, delet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(n &lt;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(a), so that the compiler will see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to be reached regardless of how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is evalu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0" y="28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426960" y="2584440"/>
          <a:ext cx="840420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2584440"/>
                    <a:ext cx="84042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CA6F-8769-49DC-95E7-303763914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se Methods from Oth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E: One of the benefits of methods is for reuse.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ma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ethod can be invoked from any class besid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estMa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 If you create a new clas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you can invok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ma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ethod using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ClassName.method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e.g.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TestMax.ma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2243-65FD-4A8C-A485-5ED5232B6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all Stac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18558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18558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9" descr=""/>
          <p:cNvPicPr/>
          <p:nvPr/>
        </p:nvPicPr>
        <p:blipFill>
          <a:blip r:embed="rId1"/>
          <a:stretch/>
        </p:blipFill>
        <p:spPr>
          <a:xfrm>
            <a:off x="117360" y="2033640"/>
            <a:ext cx="90266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8060-D1B6-49A3-98C5-9C5F9C053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all S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Object 5"/>
          <p:cNvGraphicFramePr/>
          <p:nvPr/>
        </p:nvGraphicFramePr>
        <p:xfrm>
          <a:off x="117360" y="2162160"/>
          <a:ext cx="4878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2162160"/>
                    <a:ext cx="4878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6"/>
          <p:cNvSpPr/>
          <p:nvPr/>
        </p:nvSpPr>
        <p:spPr>
          <a:xfrm>
            <a:off x="347760" y="2622600"/>
            <a:ext cx="3384360" cy="1540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4456080" y="1469880"/>
            <a:ext cx="3533760" cy="654120"/>
          </a:xfrm>
          <a:prstGeom prst="wedgeRoundRectCallout">
            <a:avLst>
              <a:gd name="adj1" fmla="val -89712"/>
              <a:gd name="adj2" fmla="val 140777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is declared and initi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Object 8"/>
          <p:cNvGraphicFramePr/>
          <p:nvPr/>
        </p:nvGraphicFramePr>
        <p:xfrm>
          <a:off x="6146640" y="2392200"/>
          <a:ext cx="1830600" cy="326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6640" y="2392200"/>
                    <a:ext cx="183060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Line 10"/>
          <p:cNvSpPr/>
          <p:nvPr/>
        </p:nvSpPr>
        <p:spPr>
          <a:xfrm>
            <a:off x="3611520" y="2698920"/>
            <a:ext cx="3879720" cy="1882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F144-3CF0-45D9-A814-65DF2BB74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all S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Object 5"/>
          <p:cNvGraphicFramePr/>
          <p:nvPr/>
        </p:nvGraphicFramePr>
        <p:xfrm>
          <a:off x="117360" y="2162160"/>
          <a:ext cx="4878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2162160"/>
                    <a:ext cx="4878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6"/>
          <p:cNvSpPr/>
          <p:nvPr/>
        </p:nvSpPr>
        <p:spPr>
          <a:xfrm>
            <a:off x="347760" y="2814480"/>
            <a:ext cx="3384360" cy="1540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4456080" y="1469880"/>
            <a:ext cx="3533760" cy="654120"/>
          </a:xfrm>
          <a:prstGeom prst="wedgeRoundRectCallout">
            <a:avLst>
              <a:gd name="adj1" fmla="val -86523"/>
              <a:gd name="adj2" fmla="val 171842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 is declared and initi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Object 8"/>
          <p:cNvGraphicFramePr/>
          <p:nvPr/>
        </p:nvGraphicFramePr>
        <p:xfrm>
          <a:off x="6146640" y="2392200"/>
          <a:ext cx="1830600" cy="326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6640" y="2392200"/>
                    <a:ext cx="183060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Line 9"/>
          <p:cNvSpPr/>
          <p:nvPr/>
        </p:nvSpPr>
        <p:spPr>
          <a:xfrm>
            <a:off x="3457440" y="2890800"/>
            <a:ext cx="4033800" cy="1536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33F0-C8E4-484E-9A53-0701663F6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3720" y="124920"/>
            <a:ext cx="78804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44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17360" y="971640"/>
            <a:ext cx="8871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1; i &lt;= 10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+= 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"Sum from 1 to 10 is " + sum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20; i &lt;= 30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+= 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"Sum from 20 to 30 is " + sum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35; i &lt;= 45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+= 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"Sum from 35 to 45 is " + sum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618C-EEC8-4D6B-B817-474CE0298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all S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Object 5"/>
          <p:cNvGraphicFramePr/>
          <p:nvPr/>
        </p:nvGraphicFramePr>
        <p:xfrm>
          <a:off x="117360" y="2162160"/>
          <a:ext cx="4878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2162160"/>
                    <a:ext cx="4878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Rectangle 6"/>
          <p:cNvSpPr/>
          <p:nvPr/>
        </p:nvSpPr>
        <p:spPr>
          <a:xfrm>
            <a:off x="347760" y="3006720"/>
            <a:ext cx="690480" cy="1540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7"/>
          <p:cNvSpPr/>
          <p:nvPr/>
        </p:nvSpPr>
        <p:spPr>
          <a:xfrm>
            <a:off x="4456080" y="1469880"/>
            <a:ext cx="3533760" cy="654120"/>
          </a:xfrm>
          <a:prstGeom prst="wedgeRoundRectCallout">
            <a:avLst>
              <a:gd name="adj1" fmla="val -150268"/>
              <a:gd name="adj2" fmla="val 183495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lare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Object 8"/>
          <p:cNvGraphicFramePr/>
          <p:nvPr/>
        </p:nvGraphicFramePr>
        <p:xfrm>
          <a:off x="6146640" y="2392200"/>
          <a:ext cx="1830600" cy="326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6640" y="2392200"/>
                    <a:ext cx="183060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Line 9"/>
          <p:cNvSpPr/>
          <p:nvPr/>
        </p:nvSpPr>
        <p:spPr>
          <a:xfrm>
            <a:off x="1000080" y="3121200"/>
            <a:ext cx="652932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C557-8F3B-4E87-907A-6E8E0C2B6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all S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Object 5"/>
          <p:cNvGraphicFramePr/>
          <p:nvPr/>
        </p:nvGraphicFramePr>
        <p:xfrm>
          <a:off x="117360" y="2162160"/>
          <a:ext cx="4878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2162160"/>
                    <a:ext cx="4878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6"/>
          <p:cNvSpPr/>
          <p:nvPr/>
        </p:nvSpPr>
        <p:spPr>
          <a:xfrm>
            <a:off x="1230480" y="3006720"/>
            <a:ext cx="2501640" cy="1540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7"/>
          <p:cNvSpPr/>
          <p:nvPr/>
        </p:nvSpPr>
        <p:spPr>
          <a:xfrm>
            <a:off x="4456080" y="1469880"/>
            <a:ext cx="3533760" cy="654120"/>
          </a:xfrm>
          <a:prstGeom prst="wedgeRoundRectCallout">
            <a:avLst>
              <a:gd name="adj1" fmla="val -78842"/>
              <a:gd name="adj2" fmla="val 192717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oke max(i, 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Object 8"/>
          <p:cNvGraphicFramePr/>
          <p:nvPr/>
        </p:nvGraphicFramePr>
        <p:xfrm>
          <a:off x="6146640" y="2392200"/>
          <a:ext cx="1830600" cy="326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6640" y="2392200"/>
                    <a:ext cx="183060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Line 9"/>
          <p:cNvSpPr/>
          <p:nvPr/>
        </p:nvSpPr>
        <p:spPr>
          <a:xfrm>
            <a:off x="3305160" y="3083040"/>
            <a:ext cx="114480" cy="1268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A920-9EC9-4542-A84C-A96AF54A3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all S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Object 5"/>
          <p:cNvGraphicFramePr/>
          <p:nvPr/>
        </p:nvGraphicFramePr>
        <p:xfrm>
          <a:off x="117360" y="2162160"/>
          <a:ext cx="4878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2162160"/>
                    <a:ext cx="4878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6"/>
          <p:cNvSpPr/>
          <p:nvPr/>
        </p:nvSpPr>
        <p:spPr>
          <a:xfrm>
            <a:off x="2036880" y="4311720"/>
            <a:ext cx="2573280" cy="1918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4456080" y="1469880"/>
            <a:ext cx="3533760" cy="654120"/>
          </a:xfrm>
          <a:prstGeom prst="wedgeRoundRectCallout">
            <a:avLst>
              <a:gd name="adj1" fmla="val -47171"/>
              <a:gd name="adj2" fmla="val 396115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 the values of i and j to num1 and nu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Object 11"/>
          <p:cNvGraphicFramePr/>
          <p:nvPr/>
        </p:nvGraphicFramePr>
        <p:xfrm>
          <a:off x="6070680" y="2276640"/>
          <a:ext cx="2284200" cy="40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0680" y="2276640"/>
                    <a:ext cx="2284200" cy="40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Line 9"/>
          <p:cNvSpPr/>
          <p:nvPr/>
        </p:nvSpPr>
        <p:spPr>
          <a:xfrm flipV="1">
            <a:off x="3535200" y="3889080"/>
            <a:ext cx="3610080" cy="461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4D2F-A612-47FE-AA32-57D858FBC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all S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Object 5"/>
          <p:cNvGraphicFramePr/>
          <p:nvPr/>
        </p:nvGraphicFramePr>
        <p:xfrm>
          <a:off x="117360" y="2162160"/>
          <a:ext cx="4878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2162160"/>
                    <a:ext cx="4878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6"/>
          <p:cNvSpPr/>
          <p:nvPr/>
        </p:nvSpPr>
        <p:spPr>
          <a:xfrm>
            <a:off x="385920" y="4503600"/>
            <a:ext cx="4186080" cy="19224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4456080" y="1469880"/>
            <a:ext cx="3533760" cy="654120"/>
          </a:xfrm>
          <a:prstGeom prst="wedgeRoundRectCallout">
            <a:avLst>
              <a:gd name="adj1" fmla="val -51032"/>
              <a:gd name="adj2" fmla="val 435435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lare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Object 8"/>
          <p:cNvGraphicFramePr/>
          <p:nvPr/>
        </p:nvGraphicFramePr>
        <p:xfrm>
          <a:off x="6070680" y="2276640"/>
          <a:ext cx="2284200" cy="40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0680" y="2276640"/>
                    <a:ext cx="2284200" cy="40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Line 9"/>
          <p:cNvSpPr/>
          <p:nvPr/>
        </p:nvSpPr>
        <p:spPr>
          <a:xfrm flipV="1">
            <a:off x="3919680" y="3620880"/>
            <a:ext cx="3263760" cy="998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5E78-2535-47DD-8A16-64B56D31C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all S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Object 5"/>
          <p:cNvGraphicFramePr/>
          <p:nvPr/>
        </p:nvGraphicFramePr>
        <p:xfrm>
          <a:off x="117360" y="2162160"/>
          <a:ext cx="4878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2162160"/>
                    <a:ext cx="4878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Rectangle 6"/>
          <p:cNvSpPr/>
          <p:nvPr/>
        </p:nvSpPr>
        <p:spPr>
          <a:xfrm>
            <a:off x="385920" y="4811760"/>
            <a:ext cx="4186080" cy="1918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7"/>
          <p:cNvSpPr/>
          <p:nvPr/>
        </p:nvSpPr>
        <p:spPr>
          <a:xfrm>
            <a:off x="4456080" y="1469880"/>
            <a:ext cx="3533760" cy="654120"/>
          </a:xfrm>
          <a:prstGeom prst="wedgeRoundRectCallout">
            <a:avLst>
              <a:gd name="adj1" fmla="val -53819"/>
              <a:gd name="adj2" fmla="val 472328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um1 &gt; num2) is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Object 8"/>
          <p:cNvGraphicFramePr/>
          <p:nvPr/>
        </p:nvGraphicFramePr>
        <p:xfrm>
          <a:off x="6070680" y="2276640"/>
          <a:ext cx="2284200" cy="40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0680" y="2276640"/>
                    <a:ext cx="2284200" cy="40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A6C5-4F76-4A5B-A27D-36629A2E6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all S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Object 5"/>
          <p:cNvGraphicFramePr/>
          <p:nvPr/>
        </p:nvGraphicFramePr>
        <p:xfrm>
          <a:off x="117360" y="2162160"/>
          <a:ext cx="4878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2162160"/>
                    <a:ext cx="4878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6"/>
          <p:cNvSpPr/>
          <p:nvPr/>
        </p:nvSpPr>
        <p:spPr>
          <a:xfrm>
            <a:off x="385920" y="5003640"/>
            <a:ext cx="4186080" cy="19224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7"/>
          <p:cNvSpPr/>
          <p:nvPr/>
        </p:nvSpPr>
        <p:spPr>
          <a:xfrm>
            <a:off x="4456080" y="1469880"/>
            <a:ext cx="3533760" cy="654120"/>
          </a:xfrm>
          <a:prstGeom prst="wedgeRoundRectCallout">
            <a:avLst>
              <a:gd name="adj1" fmla="val -51259"/>
              <a:gd name="adj2" fmla="val 507037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num1 to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Object 8"/>
          <p:cNvGraphicFramePr/>
          <p:nvPr/>
        </p:nvGraphicFramePr>
        <p:xfrm>
          <a:off x="6070680" y="2276640"/>
          <a:ext cx="2284200" cy="40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0680" y="2276640"/>
                    <a:ext cx="2284200" cy="40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Line 9"/>
          <p:cNvSpPr/>
          <p:nvPr/>
        </p:nvSpPr>
        <p:spPr>
          <a:xfrm flipV="1">
            <a:off x="3957480" y="3658680"/>
            <a:ext cx="3726000" cy="145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2D8F-319B-43F3-8364-CF29479B9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all S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Object 5"/>
          <p:cNvGraphicFramePr/>
          <p:nvPr/>
        </p:nvGraphicFramePr>
        <p:xfrm>
          <a:off x="117360" y="2162160"/>
          <a:ext cx="4878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2162160"/>
                    <a:ext cx="4878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6"/>
          <p:cNvSpPr/>
          <p:nvPr/>
        </p:nvSpPr>
        <p:spPr>
          <a:xfrm>
            <a:off x="347760" y="5694480"/>
            <a:ext cx="4186080" cy="19188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4456080" y="1469880"/>
            <a:ext cx="3533760" cy="654120"/>
          </a:xfrm>
          <a:prstGeom prst="wedgeRoundRectCallout">
            <a:avLst>
              <a:gd name="adj1" fmla="val -63254"/>
              <a:gd name="adj2" fmla="val 604125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result and assign it to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Object 8"/>
          <p:cNvGraphicFramePr/>
          <p:nvPr/>
        </p:nvGraphicFramePr>
        <p:xfrm>
          <a:off x="6070680" y="2276640"/>
          <a:ext cx="2284200" cy="40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0680" y="2276640"/>
                    <a:ext cx="2284200" cy="40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Line 9"/>
          <p:cNvSpPr/>
          <p:nvPr/>
        </p:nvSpPr>
        <p:spPr>
          <a:xfrm flipH="1" flipV="1">
            <a:off x="923400" y="3083040"/>
            <a:ext cx="614520" cy="265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0"/>
          <p:cNvSpPr/>
          <p:nvPr/>
        </p:nvSpPr>
        <p:spPr>
          <a:xfrm flipV="1">
            <a:off x="4226040" y="4773600"/>
            <a:ext cx="3225600" cy="998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1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6938-EBAC-43C6-876D-1A16459E6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all S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0099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2457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117360" y="2162160"/>
          <a:ext cx="4878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2162160"/>
                    <a:ext cx="4878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Rectangle 6"/>
          <p:cNvSpPr/>
          <p:nvPr/>
        </p:nvSpPr>
        <p:spPr>
          <a:xfrm>
            <a:off x="347760" y="3313080"/>
            <a:ext cx="3384360" cy="576360"/>
          </a:xfrm>
          <a:prstGeom prst="rect">
            <a:avLst/>
          </a:prstGeom>
          <a:solidFill>
            <a:srgbClr val="cbcbcb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4456080" y="1469880"/>
            <a:ext cx="3533760" cy="654120"/>
          </a:xfrm>
          <a:prstGeom prst="wedgeRoundRectCallout">
            <a:avLst>
              <a:gd name="adj1" fmla="val -75833"/>
              <a:gd name="adj2" fmla="val 256310"/>
              <a:gd name="adj3" fmla="val 16667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ute print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Object 8"/>
          <p:cNvGraphicFramePr/>
          <p:nvPr/>
        </p:nvGraphicFramePr>
        <p:xfrm>
          <a:off x="6146640" y="2392200"/>
          <a:ext cx="1830600" cy="326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6640" y="2392200"/>
                    <a:ext cx="183060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10"/>
          <p:cNvSpPr/>
          <p:nvPr/>
        </p:nvSpPr>
        <p:spPr>
          <a:xfrm>
            <a:off x="0" y="0"/>
            <a:ext cx="15238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Forte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04B5-5867-413A-97DF-6172B9CF6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id Method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231840" y="1278000"/>
            <a:ext cx="8458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method does not return a value. The method performs som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1576440" y="3621240"/>
            <a:ext cx="210672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Void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">
            <a:hlinkClick r:id="rId1"/>
          </p:cNvPr>
          <p:cNvSpPr/>
          <p:nvPr/>
        </p:nvSpPr>
        <p:spPr>
          <a:xfrm>
            <a:off x="4524480" y="3621240"/>
            <a:ext cx="699840" cy="380880"/>
          </a:xfrm>
          <a:custGeom>
            <a:avLst/>
            <a:gdLst>
              <a:gd name="textAreaLeft" fmla="*/ 24480 w 699840"/>
              <a:gd name="textAreaRight" fmla="*/ 675360 w 69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671" h="21600">
                <a:moveTo>
                  <a:pt x="0" y="0"/>
                </a:moveTo>
                <a:lnTo>
                  <a:pt x="39671" y="0"/>
                </a:lnTo>
                <a:lnTo>
                  <a:pt x="39671" y="21600"/>
                </a:lnTo>
                <a:lnTo>
                  <a:pt x="0" y="21600"/>
                </a:lnTo>
                <a:close/>
              </a:path>
              <a:path fill="lightenLess" w="39671" h="21600">
                <a:moveTo>
                  <a:pt x="0" y="0"/>
                </a:moveTo>
                <a:lnTo>
                  <a:pt x="39671" y="0"/>
                </a:lnTo>
                <a:lnTo>
                  <a:pt x="38271" y="1400"/>
                </a:lnTo>
                <a:lnTo>
                  <a:pt x="1400" y="1400"/>
                </a:lnTo>
                <a:close/>
              </a:path>
              <a:path fill="darken" w="39671" h="21600">
                <a:moveTo>
                  <a:pt x="39671" y="0"/>
                </a:moveTo>
                <a:lnTo>
                  <a:pt x="39671" y="21600"/>
                </a:lnTo>
                <a:lnTo>
                  <a:pt x="38271" y="20200"/>
                </a:lnTo>
                <a:lnTo>
                  <a:pt x="38271" y="1400"/>
                </a:lnTo>
                <a:close/>
              </a:path>
              <a:path fill="darkenLess" w="39671" h="21600">
                <a:moveTo>
                  <a:pt x="39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71" y="20200"/>
                </a:lnTo>
                <a:close/>
              </a:path>
              <a:path fill="lighten" w="39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2"/>
          <p:cNvSpPr/>
          <p:nvPr/>
        </p:nvSpPr>
        <p:spPr>
          <a:xfrm>
            <a:off x="1576440" y="4235400"/>
            <a:ext cx="277164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ReturnGrade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0">
            <a:hlinkClick r:id="rId2"/>
          </p:cNvPr>
          <p:cNvSpPr/>
          <p:nvPr/>
        </p:nvSpPr>
        <p:spPr>
          <a:xfrm>
            <a:off x="4537080" y="423540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9835-EF94-41E2-BAFF-59C061629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nPrintln(String message, int n) {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messag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380880" y="2666880"/>
            <a:ext cx="8458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you invoke the method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Println(“Welcome to Java”, 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outp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you invoke the method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Println(“Computer Science”, 1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outp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invoke the method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Println(15, “Computer Science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7342-0369-4EA1-957D-671777C52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3720" y="124920"/>
            <a:ext cx="78804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44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17360" y="971640"/>
            <a:ext cx="8871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1; i &lt;= 10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+= 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"Sum from 1 to 10 is " + sum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20; i &lt;= 30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+= 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"Sum from 20 to 30 is " + sum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35; i &lt;= 45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+= 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"Sum from 35 to 45 is " + sum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93680" y="1009800"/>
            <a:ext cx="5684760" cy="1036440"/>
          </a:xfrm>
          <a:prstGeom prst="rect">
            <a:avLst/>
          </a:prstGeom>
          <a:solidFill>
            <a:srgbClr val="ff6600">
              <a:alpha val="3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31840" y="2698920"/>
            <a:ext cx="5646600" cy="1036440"/>
          </a:xfrm>
          <a:prstGeom prst="rect">
            <a:avLst/>
          </a:prstGeom>
          <a:solidFill>
            <a:srgbClr val="ff6600">
              <a:alpha val="3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31840" y="4389480"/>
            <a:ext cx="5607000" cy="1036440"/>
          </a:xfrm>
          <a:prstGeom prst="rect">
            <a:avLst/>
          </a:prstGeom>
          <a:solidFill>
            <a:srgbClr val="ff6600">
              <a:alpha val="3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E75E-E39A-48AC-A50C-BCF34D69F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by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838080" y="16765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gram demonstrates passing values to th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4915080" y="4503600"/>
            <a:ext cx="1503360" cy="38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0">
            <a:hlinkClick r:id="rId1"/>
          </p:cNvPr>
          <p:cNvSpPr/>
          <p:nvPr/>
        </p:nvSpPr>
        <p:spPr>
          <a:xfrm>
            <a:off x="6607080" y="4503600"/>
            <a:ext cx="700200" cy="381240"/>
          </a:xfrm>
          <a:custGeom>
            <a:avLst/>
            <a:gdLst>
              <a:gd name="textAreaLeft" fmla="*/ 24480 w 700200"/>
              <a:gd name="textAreaRight" fmla="*/ 675720 w 700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9654" h="21600">
                <a:moveTo>
                  <a:pt x="0" y="0"/>
                </a:moveTo>
                <a:lnTo>
                  <a:pt x="39654" y="0"/>
                </a:lnTo>
                <a:lnTo>
                  <a:pt x="39654" y="21600"/>
                </a:lnTo>
                <a:lnTo>
                  <a:pt x="0" y="21600"/>
                </a:lnTo>
                <a:close/>
              </a:path>
              <a:path fill="lightenLess" w="39654" h="21600">
                <a:moveTo>
                  <a:pt x="0" y="0"/>
                </a:moveTo>
                <a:lnTo>
                  <a:pt x="39654" y="0"/>
                </a:lnTo>
                <a:lnTo>
                  <a:pt x="38254" y="1400"/>
                </a:lnTo>
                <a:lnTo>
                  <a:pt x="1400" y="1400"/>
                </a:lnTo>
                <a:close/>
              </a:path>
              <a:path fill="darken" w="39654" h="21600">
                <a:moveTo>
                  <a:pt x="39654" y="0"/>
                </a:moveTo>
                <a:lnTo>
                  <a:pt x="39654" y="21600"/>
                </a:lnTo>
                <a:lnTo>
                  <a:pt x="38254" y="20200"/>
                </a:lnTo>
                <a:lnTo>
                  <a:pt x="38254" y="1400"/>
                </a:lnTo>
                <a:close/>
              </a:path>
              <a:path fill="darkenLess" w="39654" h="21600">
                <a:moveTo>
                  <a:pt x="39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54" y="20200"/>
                </a:lnTo>
                <a:close/>
              </a:path>
              <a:path fill="lighten" w="39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E3A9-986F-4599-95FE-C92514141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by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838080" y="1676520"/>
            <a:ext cx="74678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Pass by val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gram demonstrates passing values to th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149720" y="4389480"/>
            <a:ext cx="223056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PassBy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10">
            <a:hlinkClick r:id="rId1"/>
          </p:cNvPr>
          <p:cNvSpPr/>
          <p:nvPr/>
        </p:nvSpPr>
        <p:spPr>
          <a:xfrm>
            <a:off x="6568920" y="4389480"/>
            <a:ext cx="700200" cy="380880"/>
          </a:xfrm>
          <a:custGeom>
            <a:avLst/>
            <a:gdLst>
              <a:gd name="textAreaLeft" fmla="*/ 24480 w 700200"/>
              <a:gd name="textAreaRight" fmla="*/ 675720 w 7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692" h="21600">
                <a:moveTo>
                  <a:pt x="0" y="0"/>
                </a:moveTo>
                <a:lnTo>
                  <a:pt x="39692" y="0"/>
                </a:lnTo>
                <a:lnTo>
                  <a:pt x="39692" y="21600"/>
                </a:lnTo>
                <a:lnTo>
                  <a:pt x="0" y="21600"/>
                </a:lnTo>
                <a:close/>
              </a:path>
              <a:path fill="lightenLess" w="39692" h="21600">
                <a:moveTo>
                  <a:pt x="0" y="0"/>
                </a:moveTo>
                <a:lnTo>
                  <a:pt x="39692" y="0"/>
                </a:lnTo>
                <a:lnTo>
                  <a:pt x="38292" y="1400"/>
                </a:lnTo>
                <a:lnTo>
                  <a:pt x="1400" y="1400"/>
                </a:lnTo>
                <a:close/>
              </a:path>
              <a:path fill="darken" w="39692" h="21600">
                <a:moveTo>
                  <a:pt x="39692" y="0"/>
                </a:moveTo>
                <a:lnTo>
                  <a:pt x="39692" y="21600"/>
                </a:lnTo>
                <a:lnTo>
                  <a:pt x="38292" y="20200"/>
                </a:lnTo>
                <a:lnTo>
                  <a:pt x="38292" y="1400"/>
                </a:lnTo>
                <a:close/>
              </a:path>
              <a:path fill="darkenLess" w="39692" h="21600">
                <a:moveTo>
                  <a:pt x="3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92" y="20200"/>
                </a:lnTo>
                <a:close/>
              </a:path>
              <a:path fill="lighten" w="3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9583-B0A8-4D3B-A3F5-37C519D1C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by Value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231300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18558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7" descr=""/>
          <p:cNvPicPr/>
          <p:nvPr/>
        </p:nvPicPr>
        <p:blipFill>
          <a:blip r:embed="rId1"/>
          <a:stretch/>
        </p:blipFill>
        <p:spPr>
          <a:xfrm>
            <a:off x="139680" y="1844640"/>
            <a:ext cx="8864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C364-2597-4B4E-91B5-925FA46D8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93720" y="31716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arizing 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93320" y="1239480"/>
            <a:ext cx="8682120" cy="18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can be used to reduce redundant coding and enable code reuse. Methods can also be used to modularize code and improve the quality of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2766960" y="3927600"/>
            <a:ext cx="361332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stCommonDivisor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0">
            <a:hlinkClick r:id="rId1"/>
          </p:cNvPr>
          <p:cNvSpPr/>
          <p:nvPr/>
        </p:nvSpPr>
        <p:spPr>
          <a:xfrm>
            <a:off x="6568920" y="3927600"/>
            <a:ext cx="700200" cy="380880"/>
          </a:xfrm>
          <a:custGeom>
            <a:avLst/>
            <a:gdLst>
              <a:gd name="textAreaLeft" fmla="*/ 24480 w 700200"/>
              <a:gd name="textAreaRight" fmla="*/ 675720 w 7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692" h="21600">
                <a:moveTo>
                  <a:pt x="0" y="0"/>
                </a:moveTo>
                <a:lnTo>
                  <a:pt x="39692" y="0"/>
                </a:lnTo>
                <a:lnTo>
                  <a:pt x="39692" y="21600"/>
                </a:lnTo>
                <a:lnTo>
                  <a:pt x="0" y="21600"/>
                </a:lnTo>
                <a:close/>
              </a:path>
              <a:path fill="lightenLess" w="39692" h="21600">
                <a:moveTo>
                  <a:pt x="0" y="0"/>
                </a:moveTo>
                <a:lnTo>
                  <a:pt x="39692" y="0"/>
                </a:lnTo>
                <a:lnTo>
                  <a:pt x="38292" y="1400"/>
                </a:lnTo>
                <a:lnTo>
                  <a:pt x="1400" y="1400"/>
                </a:lnTo>
                <a:close/>
              </a:path>
              <a:path fill="darken" w="39692" h="21600">
                <a:moveTo>
                  <a:pt x="39692" y="0"/>
                </a:moveTo>
                <a:lnTo>
                  <a:pt x="39692" y="21600"/>
                </a:lnTo>
                <a:lnTo>
                  <a:pt x="38292" y="20200"/>
                </a:lnTo>
                <a:lnTo>
                  <a:pt x="38292" y="1400"/>
                </a:lnTo>
                <a:close/>
              </a:path>
              <a:path fill="darkenLess" w="39692" h="21600">
                <a:moveTo>
                  <a:pt x="3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92" y="20200"/>
                </a:lnTo>
                <a:close/>
              </a:path>
              <a:path fill="lighten" w="3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2"/>
          <p:cNvSpPr/>
          <p:nvPr/>
        </p:nvSpPr>
        <p:spPr>
          <a:xfrm>
            <a:off x="2766960" y="4545000"/>
            <a:ext cx="361332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Number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0">
            <a:hlinkClick r:id="rId2"/>
          </p:cNvPr>
          <p:cNvSpPr/>
          <p:nvPr/>
        </p:nvSpPr>
        <p:spPr>
          <a:xfrm>
            <a:off x="6568920" y="4545000"/>
            <a:ext cx="700200" cy="380880"/>
          </a:xfrm>
          <a:custGeom>
            <a:avLst/>
            <a:gdLst>
              <a:gd name="textAreaLeft" fmla="*/ 24480 w 700200"/>
              <a:gd name="textAreaRight" fmla="*/ 675720 w 7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692" h="21600">
                <a:moveTo>
                  <a:pt x="0" y="0"/>
                </a:moveTo>
                <a:lnTo>
                  <a:pt x="39692" y="0"/>
                </a:lnTo>
                <a:lnTo>
                  <a:pt x="39692" y="21600"/>
                </a:lnTo>
                <a:lnTo>
                  <a:pt x="0" y="21600"/>
                </a:lnTo>
                <a:close/>
              </a:path>
              <a:path fill="lightenLess" w="39692" h="21600">
                <a:moveTo>
                  <a:pt x="0" y="0"/>
                </a:moveTo>
                <a:lnTo>
                  <a:pt x="39692" y="0"/>
                </a:lnTo>
                <a:lnTo>
                  <a:pt x="38292" y="1400"/>
                </a:lnTo>
                <a:lnTo>
                  <a:pt x="1400" y="1400"/>
                </a:lnTo>
                <a:close/>
              </a:path>
              <a:path fill="darken" w="39692" h="21600">
                <a:moveTo>
                  <a:pt x="39692" y="0"/>
                </a:moveTo>
                <a:lnTo>
                  <a:pt x="39692" y="21600"/>
                </a:lnTo>
                <a:lnTo>
                  <a:pt x="38292" y="20200"/>
                </a:lnTo>
                <a:lnTo>
                  <a:pt x="38292" y="1400"/>
                </a:lnTo>
                <a:close/>
              </a:path>
              <a:path fill="darkenLess" w="39692" h="21600">
                <a:moveTo>
                  <a:pt x="3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92" y="20200"/>
                </a:lnTo>
                <a:close/>
              </a:path>
              <a:path fill="lighten" w="3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2EE5-509F-4427-9197-74F3843F9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70000" y="0"/>
            <a:ext cx="871848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se Study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Hexadecimals to Decim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461880" y="1676520"/>
            <a:ext cx="825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method that converts a hexadecimal number into a decimal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347760" y="2752560"/>
            <a:ext cx="8258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CD =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*16^3 + B*16^2 + C*16^1+ D*16^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(A*16 + B)*16 + C)*16+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(10*16 + 11)*16 + 12)*16+13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5191200" y="5772240"/>
            <a:ext cx="153972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x2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10">
            <a:hlinkClick r:id="rId1"/>
          </p:cNvPr>
          <p:cNvSpPr/>
          <p:nvPr/>
        </p:nvSpPr>
        <p:spPr>
          <a:xfrm>
            <a:off x="6918480" y="5772240"/>
            <a:ext cx="699840" cy="380880"/>
          </a:xfrm>
          <a:custGeom>
            <a:avLst/>
            <a:gdLst>
              <a:gd name="textAreaLeft" fmla="*/ 24480 w 699840"/>
              <a:gd name="textAreaRight" fmla="*/ 675360 w 69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671" h="21600">
                <a:moveTo>
                  <a:pt x="0" y="0"/>
                </a:moveTo>
                <a:lnTo>
                  <a:pt x="39671" y="0"/>
                </a:lnTo>
                <a:lnTo>
                  <a:pt x="39671" y="21600"/>
                </a:lnTo>
                <a:lnTo>
                  <a:pt x="0" y="21600"/>
                </a:lnTo>
                <a:close/>
              </a:path>
              <a:path fill="lightenLess" w="39671" h="21600">
                <a:moveTo>
                  <a:pt x="0" y="0"/>
                </a:moveTo>
                <a:lnTo>
                  <a:pt x="39671" y="0"/>
                </a:lnTo>
                <a:lnTo>
                  <a:pt x="38271" y="1400"/>
                </a:lnTo>
                <a:lnTo>
                  <a:pt x="1400" y="1400"/>
                </a:lnTo>
                <a:close/>
              </a:path>
              <a:path fill="darken" w="39671" h="21600">
                <a:moveTo>
                  <a:pt x="39671" y="0"/>
                </a:moveTo>
                <a:lnTo>
                  <a:pt x="39671" y="21600"/>
                </a:lnTo>
                <a:lnTo>
                  <a:pt x="38271" y="20200"/>
                </a:lnTo>
                <a:lnTo>
                  <a:pt x="38271" y="1400"/>
                </a:lnTo>
                <a:close/>
              </a:path>
              <a:path fill="darkenLess" w="39671" h="21600">
                <a:moveTo>
                  <a:pt x="39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71" y="20200"/>
                </a:lnTo>
                <a:close/>
              </a:path>
              <a:path fill="lighten" w="39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690D-E66A-431F-A94F-CB15B7D61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load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oad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ublic static double max(double num1, double num2) 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(num1 &gt; num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turn num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turn num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4086360" y="5425920"/>
            <a:ext cx="2755800" cy="38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MethodOver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10">
            <a:hlinkClick r:id="rId1"/>
          </p:cNvPr>
          <p:cNvSpPr/>
          <p:nvPr/>
        </p:nvSpPr>
        <p:spPr>
          <a:xfrm>
            <a:off x="7029360" y="5425920"/>
            <a:ext cx="700200" cy="381240"/>
          </a:xfrm>
          <a:custGeom>
            <a:avLst/>
            <a:gdLst>
              <a:gd name="textAreaLeft" fmla="*/ 24480 w 700200"/>
              <a:gd name="textAreaRight" fmla="*/ 675720 w 700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9654" h="21600">
                <a:moveTo>
                  <a:pt x="0" y="0"/>
                </a:moveTo>
                <a:lnTo>
                  <a:pt x="39654" y="0"/>
                </a:lnTo>
                <a:lnTo>
                  <a:pt x="39654" y="21600"/>
                </a:lnTo>
                <a:lnTo>
                  <a:pt x="0" y="21600"/>
                </a:lnTo>
                <a:close/>
              </a:path>
              <a:path fill="lightenLess" w="39654" h="21600">
                <a:moveTo>
                  <a:pt x="0" y="0"/>
                </a:moveTo>
                <a:lnTo>
                  <a:pt x="39654" y="0"/>
                </a:lnTo>
                <a:lnTo>
                  <a:pt x="38254" y="1400"/>
                </a:lnTo>
                <a:lnTo>
                  <a:pt x="1400" y="1400"/>
                </a:lnTo>
                <a:close/>
              </a:path>
              <a:path fill="darken" w="39654" h="21600">
                <a:moveTo>
                  <a:pt x="39654" y="0"/>
                </a:moveTo>
                <a:lnTo>
                  <a:pt x="39654" y="21600"/>
                </a:lnTo>
                <a:lnTo>
                  <a:pt x="38254" y="20200"/>
                </a:lnTo>
                <a:lnTo>
                  <a:pt x="38254" y="1400"/>
                </a:lnTo>
                <a:close/>
              </a:path>
              <a:path fill="darkenLess" w="39654" h="21600">
                <a:moveTo>
                  <a:pt x="39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54" y="20200"/>
                </a:lnTo>
                <a:close/>
              </a:path>
              <a:path fill="lighten" w="39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46E2-7A9F-4738-9887-3FDB5D01C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guous In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31840" y="1599840"/>
            <a:ext cx="87184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there may be two or more possible matches for an invocation of a method, but the compiler cannot determine the most specific match. This is referred to 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guous invoc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mbiguous invocation is a compile err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411A-8393-4C65-813E-9A7D17DB1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guous In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92504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AmbiguousOverload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max(1, 2)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double max(int num1, double num2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num1 &gt; num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um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um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double max(double num1, int num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num1 &gt; num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um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um2;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D60E-6138-46C1-87CB-377E4AB5F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Local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ocal variable: a variable defined inside a meth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pe: the part of the program where the variable can be referen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pe of a local variable starts from its declaration and continues to the end of the block that contains the variable. A local variable must be declared before it can be u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D1FC-9BE9-4687-8645-BB4DE41BE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Local Variable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declare a local variable with the same name multiple times in different non-nesting blocks in a method, but you cannot declare a local variable twice in nested bloc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470A-CB63-4832-A55D-BF1A7452D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3720" y="-360"/>
            <a:ext cx="787248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23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44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55520" y="855720"/>
            <a:ext cx="8832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tatic i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1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2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(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= i1; i &lt;= i2; i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+= 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tatic vo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String[] arg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Sum from 1 to 10 is " + sum(1, 10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Sum from 20 to 30 is " + sum(20, 30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Sum from 35 to 45 is " + sum(35, 45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31840" y="893880"/>
            <a:ext cx="5492520" cy="2573280"/>
          </a:xfrm>
          <a:prstGeom prst="rect">
            <a:avLst/>
          </a:prstGeom>
          <a:solidFill>
            <a:srgbClr val="ff6600">
              <a:alpha val="3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6723000" y="4351320"/>
            <a:ext cx="1575000" cy="384120"/>
          </a:xfrm>
          <a:prstGeom prst="rect">
            <a:avLst/>
          </a:prstGeom>
          <a:solidFill>
            <a:srgbClr val="ff6600">
              <a:alpha val="3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6915240" y="4811760"/>
            <a:ext cx="1727280" cy="384120"/>
          </a:xfrm>
          <a:prstGeom prst="rect">
            <a:avLst/>
          </a:prstGeom>
          <a:solidFill>
            <a:srgbClr val="ff6600">
              <a:alpha val="3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877080" y="5272200"/>
            <a:ext cx="1727280" cy="384120"/>
          </a:xfrm>
          <a:prstGeom prst="rect">
            <a:avLst/>
          </a:prstGeom>
          <a:solidFill>
            <a:srgbClr val="ff6600">
              <a:alpha val="3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5954760" y="2728800"/>
            <a:ext cx="1676520" cy="38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0">
            <a:hlinkClick r:id="rId1"/>
          </p:cNvPr>
          <p:cNvSpPr/>
          <p:nvPr/>
        </p:nvSpPr>
        <p:spPr>
          <a:xfrm>
            <a:off x="7786800" y="2728800"/>
            <a:ext cx="698400" cy="38124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3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3" y="20200"/>
                </a:lnTo>
                <a:lnTo>
                  <a:pt x="38153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3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BC68-4F39-4F8E-BFB7-849C68011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Local Variable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32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declared in the initial action part of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op header has its scope in the entire loop. But a variable declared insi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op body has its scope limited in the loop body from its declaration and to the end of the block that contains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28004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Object 4" descr=""/>
          <p:cNvPicPr/>
          <p:nvPr/>
        </p:nvPicPr>
        <p:blipFill>
          <a:blip r:embed="rId1"/>
          <a:stretch/>
        </p:blipFill>
        <p:spPr>
          <a:xfrm>
            <a:off x="770040" y="2776680"/>
            <a:ext cx="7238880" cy="35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7DC9-36D2-4FBC-B7F1-EDDBF8D16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Local Variable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32004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21985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Object 7"/>
          <p:cNvGraphicFramePr/>
          <p:nvPr/>
        </p:nvGraphicFramePr>
        <p:xfrm>
          <a:off x="228600" y="2057400"/>
          <a:ext cx="891540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91540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DA8B-6C50-4434-A160-01D648EDE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Local Variable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Fine with no err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correctMethod(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 =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 =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i is declar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t i = 1; i &lt; 10; i++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i is declared ag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t i = 1; i &lt; 10; i++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C40D-5093-484C-BF4E-44E614ECA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Local Variable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533520" y="1143000"/>
            <a:ext cx="7848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With err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incorrectMethod(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 =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 =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t i = 1; i &lt; 10; i++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 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53C0-99DB-4D50-92A0-93C2FFD74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 Ab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think of the method body as a black box that contains the detailed implementation for the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282888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Object 7"/>
          <p:cNvGraphicFramePr/>
          <p:nvPr/>
        </p:nvGraphicFramePr>
        <p:xfrm>
          <a:off x="539640" y="2968560"/>
          <a:ext cx="815364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968560"/>
                    <a:ext cx="815364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8994-E861-4084-B439-098A23E2F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304920" y="1371600"/>
            <a:ext cx="85341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method once and reuse it any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hiding. Hide the implementation from the u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complex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EBEE-62FB-4453-938C-42F95DF8E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y: Generating Random Charact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uter programs process numerical data and characters. You have seen many examples that involve numerical data. It is also important to understand characters and how to process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s introduced in Section 4.3, each character has a unique Unicode between 0 and FFFF in hexadecimal (65535 in decimal). To generate a random character is to generate a random integer between 0 and 65535 using the following expression: (note that since 0 &lt;= Math.random() &lt; 1.0, you have to add 1 to 65535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int)(Math.random() * (65535 + 1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0984-CFE7-4533-BE55-846687CD5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y: Generating Random Charact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w let us consider how to generate a random lowercase letter. The Unicode for lowercase letters are consecutive integers starting from the Unicode for 'a', then for 'b', 'c', ..., and 'z'. The Unicode for 'a'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int)'a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, a random integer between (int)'a' and (int)'z'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int)((int)'a' + Math.random() * ((int)'z' - (int)'a' +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A73B-E36F-469D-9635-CD88528CE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y: Generating Random Charact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w let us consider how to generate a random lowercase letter. The Unicode for lowercase letters are consecutive integers starting from the Unicode for 'a', then for 'b', 'c', ..., and 'z'. The Unicode for 'a'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int)'a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, a random integer between (int)'a' and (int)'z'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int)((int)'a' + Math.random() * ((int)'z' - (int)'a' +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AD97-0F27-4F1E-9FC2-86C02DE94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y: Generating Random Charact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s discussed in Chapter 2, all numeric operators can be applied to the char operands. The char operand is cast into a number if the other operand is a number or a character. So, the preceding expression can be simplified as follow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'a' + Math.random() * ('z' - 'a' +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 a random lowercase letter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char)('a' + Math.random() * ('z' - 'a' + 1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FB46-D9B7-4F7E-B3C1-8DA76539F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1520" y="1009440"/>
            <a:ext cx="8450280" cy="53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define methods with formal parameters (§6.2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invoke methods with actual parameters (i.e., arguments) (§6.2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define methods with a return value (§6.3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define methods without a return value (§6.4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pass arguments by value (§6.5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develop reusable code that is modular, easy to read, easy to debug, and easy to maintain (§6.6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write a method that converts hexadecimals to decimals (§6.7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se method overloading and understand ambiguous overloading (§6.8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determine the scope of variables (§6.9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apply the concept of method abstraction in software development (§6.10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design and implement methods using stepwise refinement (§6.10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2C92-07E6-4BD3-A5AE-8A7B88431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y: Generating Random Charact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o generalize the foregoing discussion, a random character between any two characters ch1 and ch2 with ch1 &lt; ch2 can be generat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char)(ch1 + Math.random() * (ch2 – ch1 + 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BB22-3719-413C-815B-FF1D9E8DF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ndomCharacter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58420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/ RandomCharacter.java: Generate random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ndomCharacter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Generate a random character between ch1 and ch2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char getRandomCharacter(char ch1, char ch2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char)(ch1 + Math.random() * (ch2 - ch1 + 1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Generate a random lowercase letter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char getRandomLowerCaseLetter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getRandomCharacter('a', 'z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Generate a random uppercase letter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char getRandomUpperCaseLetter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getRandomCharacter('A', 'Z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Generate a random digit character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char getRandomDigitCharacter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getRandomCharacter('0', '9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* Generate a random character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char getRandomCharacter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getRandomCharacter('\u0000', '\uFFFF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5784840" y="4925880"/>
            <a:ext cx="2755800" cy="38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Random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0">
            <a:hlinkClick r:id="rId1"/>
          </p:cNvPr>
          <p:cNvSpPr/>
          <p:nvPr/>
        </p:nvSpPr>
        <p:spPr>
          <a:xfrm>
            <a:off x="5800680" y="5425920"/>
            <a:ext cx="700200" cy="381240"/>
          </a:xfrm>
          <a:custGeom>
            <a:avLst/>
            <a:gdLst>
              <a:gd name="textAreaLeft" fmla="*/ 24480 w 700200"/>
              <a:gd name="textAreaRight" fmla="*/ 675720 w 700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9654" h="21600">
                <a:moveTo>
                  <a:pt x="0" y="0"/>
                </a:moveTo>
                <a:lnTo>
                  <a:pt x="39654" y="0"/>
                </a:lnTo>
                <a:lnTo>
                  <a:pt x="39654" y="21600"/>
                </a:lnTo>
                <a:lnTo>
                  <a:pt x="0" y="21600"/>
                </a:lnTo>
                <a:close/>
              </a:path>
              <a:path fill="lightenLess" w="39654" h="21600">
                <a:moveTo>
                  <a:pt x="0" y="0"/>
                </a:moveTo>
                <a:lnTo>
                  <a:pt x="39654" y="0"/>
                </a:lnTo>
                <a:lnTo>
                  <a:pt x="38254" y="1400"/>
                </a:lnTo>
                <a:lnTo>
                  <a:pt x="1400" y="1400"/>
                </a:lnTo>
                <a:close/>
              </a:path>
              <a:path fill="darken" w="39654" h="21600">
                <a:moveTo>
                  <a:pt x="39654" y="0"/>
                </a:moveTo>
                <a:lnTo>
                  <a:pt x="39654" y="21600"/>
                </a:lnTo>
                <a:lnTo>
                  <a:pt x="38254" y="20200"/>
                </a:lnTo>
                <a:lnTo>
                  <a:pt x="38254" y="1400"/>
                </a:lnTo>
                <a:close/>
              </a:path>
              <a:path fill="darkenLess" w="39654" h="21600">
                <a:moveTo>
                  <a:pt x="39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54" y="20200"/>
                </a:lnTo>
                <a:close/>
              </a:path>
              <a:path fill="lighten" w="39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2"/>
          <p:cNvSpPr/>
          <p:nvPr/>
        </p:nvSpPr>
        <p:spPr>
          <a:xfrm>
            <a:off x="5784840" y="4427640"/>
            <a:ext cx="275580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3655-FF6F-4B6E-AF6F-BAFFB67D4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tepwise Refine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Option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concept of method abstraction can be applied to the process of developing programs. When writing a large program, you can use the “divide and conquer” strategy, also know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tepwise refin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to decompose it into subproblems. The subproblems can be further decomposed into smaller, more manageable problems.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1E28-52E1-4583-99AF-122564702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intCalender Case Stud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et us use the PrintCalendar example to demonstrate the stepwise refinement approa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31575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3105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11"/>
          <p:cNvSpPr/>
          <p:nvPr/>
        </p:nvSpPr>
        <p:spPr>
          <a:xfrm>
            <a:off x="32576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2" descr=""/>
          <p:cNvPicPr/>
          <p:nvPr/>
        </p:nvPicPr>
        <p:blipFill>
          <a:blip r:embed="rId1"/>
          <a:stretch/>
        </p:blipFill>
        <p:spPr>
          <a:xfrm>
            <a:off x="1346040" y="2546280"/>
            <a:ext cx="3826080" cy="240840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11"/>
          <p:cNvSpPr/>
          <p:nvPr/>
        </p:nvSpPr>
        <p:spPr>
          <a:xfrm>
            <a:off x="4764240" y="5694480"/>
            <a:ext cx="182232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Cale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0">
            <a:hlinkClick r:id="rId2"/>
          </p:cNvPr>
          <p:cNvSpPr/>
          <p:nvPr/>
        </p:nvSpPr>
        <p:spPr>
          <a:xfrm>
            <a:off x="6723000" y="5694480"/>
            <a:ext cx="698400" cy="380880"/>
          </a:xfrm>
          <a:custGeom>
            <a:avLst/>
            <a:gdLst>
              <a:gd name="textAreaLeft" fmla="*/ 24480 w 698400"/>
              <a:gd name="textAreaRight" fmla="*/ 673920 w 698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9590" h="21600">
                <a:moveTo>
                  <a:pt x="0" y="0"/>
                </a:moveTo>
                <a:lnTo>
                  <a:pt x="39590" y="0"/>
                </a:lnTo>
                <a:lnTo>
                  <a:pt x="39590" y="21600"/>
                </a:lnTo>
                <a:lnTo>
                  <a:pt x="0" y="21600"/>
                </a:lnTo>
                <a:close/>
              </a:path>
              <a:path fill="lightenLess" w="39590" h="21600">
                <a:moveTo>
                  <a:pt x="0" y="0"/>
                </a:moveTo>
                <a:lnTo>
                  <a:pt x="39590" y="0"/>
                </a:lnTo>
                <a:lnTo>
                  <a:pt x="38190" y="1400"/>
                </a:lnTo>
                <a:lnTo>
                  <a:pt x="1400" y="1400"/>
                </a:lnTo>
                <a:close/>
              </a:path>
              <a:path fill="darken" w="39590" h="21600">
                <a:moveTo>
                  <a:pt x="39590" y="0"/>
                </a:moveTo>
                <a:lnTo>
                  <a:pt x="39590" y="21600"/>
                </a:lnTo>
                <a:lnTo>
                  <a:pt x="38190" y="20200"/>
                </a:lnTo>
                <a:lnTo>
                  <a:pt x="38190" y="1400"/>
                </a:lnTo>
                <a:close/>
              </a:path>
              <a:path fill="darkenLess" w="39590" h="21600">
                <a:moveTo>
                  <a:pt x="39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0" y="20200"/>
                </a:lnTo>
                <a:close/>
              </a:path>
              <a:path fill="lighten" w="39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a1ba"/>
          </a:solidFill>
          <a:ln w="0">
            <a:noFill/>
          </a:ln>
          <a:effectLst>
            <a:outerShdw dist="17819" dir="2700000" blurRad="0" rotWithShape="0">
              <a:srgbClr val="2261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Object 6" descr=""/>
          <p:cNvPicPr/>
          <p:nvPr/>
        </p:nvPicPr>
        <p:blipFill>
          <a:blip r:embed="rId1"/>
          <a:stretch/>
        </p:blipFill>
        <p:spPr>
          <a:xfrm>
            <a:off x="731880" y="893880"/>
            <a:ext cx="7924680" cy="5440320"/>
          </a:xfrm>
          <a:prstGeom prst="rect">
            <a:avLst/>
          </a:prstGeom>
          <a:ln w="0">
            <a:noFill/>
          </a:ln>
        </p:spPr>
      </p:pic>
      <p:sp>
        <p:nvSpPr>
          <p:cNvPr id="622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53EE-C25A-49AD-965C-F8C3C4C20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17480" y="1623600"/>
            <a:ext cx="7772400" cy="464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217188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26575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Object 6" descr=""/>
          <p:cNvPicPr/>
          <p:nvPr/>
        </p:nvPicPr>
        <p:blipFill>
          <a:blip r:embed="rId1"/>
          <a:stretch/>
        </p:blipFill>
        <p:spPr>
          <a:xfrm>
            <a:off x="731880" y="893880"/>
            <a:ext cx="7924680" cy="5440320"/>
          </a:xfrm>
          <a:prstGeom prst="rect">
            <a:avLst/>
          </a:prstGeom>
          <a:ln w="0">
            <a:noFill/>
          </a:ln>
        </p:spPr>
      </p:pic>
      <p:sp>
        <p:nvSpPr>
          <p:cNvPr id="62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CF7C-13D0-42D9-832F-28146B9CB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217188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26575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1538280" y="3505320"/>
            <a:ext cx="6951600" cy="27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"/>
          <p:cNvSpPr/>
          <p:nvPr/>
        </p:nvSpPr>
        <p:spPr>
          <a:xfrm>
            <a:off x="1538280" y="2660760"/>
            <a:ext cx="6145200" cy="14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Object 6" descr=""/>
          <p:cNvPicPr/>
          <p:nvPr/>
        </p:nvPicPr>
        <p:blipFill>
          <a:blip r:embed="rId1"/>
          <a:stretch/>
        </p:blipFill>
        <p:spPr>
          <a:xfrm>
            <a:off x="731880" y="893880"/>
            <a:ext cx="7924680" cy="5440320"/>
          </a:xfrm>
          <a:prstGeom prst="rect">
            <a:avLst/>
          </a:prstGeom>
          <a:ln w="0">
            <a:noFill/>
          </a:ln>
        </p:spPr>
      </p:pic>
      <p:sp>
        <p:nvSpPr>
          <p:cNvPr id="636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B55E-E5FA-4471-A93D-E176BEAD2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217188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26575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1538280" y="3505320"/>
            <a:ext cx="6951600" cy="27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Object 6" descr=""/>
          <p:cNvPicPr/>
          <p:nvPr/>
        </p:nvPicPr>
        <p:blipFill>
          <a:blip r:embed="rId1"/>
          <a:stretch/>
        </p:blipFill>
        <p:spPr>
          <a:xfrm>
            <a:off x="731880" y="893880"/>
            <a:ext cx="7924680" cy="5440320"/>
          </a:xfrm>
          <a:prstGeom prst="rect">
            <a:avLst/>
          </a:prstGeom>
          <a:ln w="0">
            <a:noFill/>
          </a:ln>
        </p:spPr>
      </p:pic>
      <p:sp>
        <p:nvSpPr>
          <p:cNvPr id="643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6462-43FF-4EFF-BCB6-F4E9E0F5E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217188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26575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4379760" y="3505320"/>
            <a:ext cx="3878280" cy="26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Object 6" descr=""/>
          <p:cNvPicPr/>
          <p:nvPr/>
        </p:nvPicPr>
        <p:blipFill>
          <a:blip r:embed="rId1"/>
          <a:stretch/>
        </p:blipFill>
        <p:spPr>
          <a:xfrm>
            <a:off x="731880" y="893880"/>
            <a:ext cx="7924680" cy="5440320"/>
          </a:xfrm>
          <a:prstGeom prst="rect">
            <a:avLst/>
          </a:prstGeom>
          <a:ln w="0">
            <a:noFill/>
          </a:ln>
        </p:spPr>
      </p:pic>
      <p:sp>
        <p:nvSpPr>
          <p:cNvPr id="649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96D2-977D-4885-B4B3-530240478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217188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26575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379760" y="4119480"/>
            <a:ext cx="2497320" cy="88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3689280" y="5003640"/>
            <a:ext cx="2497320" cy="12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9"/>
          <p:cNvSpPr/>
          <p:nvPr/>
        </p:nvSpPr>
        <p:spPr>
          <a:xfrm>
            <a:off x="6184800" y="5425920"/>
            <a:ext cx="1650960" cy="8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Object 6" descr=""/>
          <p:cNvPicPr/>
          <p:nvPr/>
        </p:nvPicPr>
        <p:blipFill>
          <a:blip r:embed="rId1"/>
          <a:stretch/>
        </p:blipFill>
        <p:spPr>
          <a:xfrm>
            <a:off x="731880" y="893880"/>
            <a:ext cx="7924680" cy="5440320"/>
          </a:xfrm>
          <a:prstGeom prst="rect">
            <a:avLst/>
          </a:prstGeom>
          <a:ln w="0">
            <a:noFill/>
          </a:ln>
        </p:spPr>
      </p:pic>
      <p:sp>
        <p:nvSpPr>
          <p:cNvPr id="65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1E8A-7119-40EA-BB3C-04B8AFBD2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217188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26575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3803760" y="4735440"/>
            <a:ext cx="1728720" cy="14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0"/>
          <p:cNvSpPr/>
          <p:nvPr/>
        </p:nvSpPr>
        <p:spPr>
          <a:xfrm>
            <a:off x="5494320" y="5425920"/>
            <a:ext cx="1919160" cy="8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922E-B61C-4F1C-9544-0D97E2E44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04920" y="1143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is a collection of statements that are grouped together to perform an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8628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771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2085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2085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15"/>
          <p:cNvGraphicFramePr/>
          <p:nvPr/>
        </p:nvGraphicFramePr>
        <p:xfrm>
          <a:off x="231840" y="2543040"/>
          <a:ext cx="8642160" cy="34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43040"/>
                    <a:ext cx="8642160" cy="34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8291-CD3C-41AF-8D3B-C672ED64B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217188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26575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Object 6" descr=""/>
          <p:cNvPicPr/>
          <p:nvPr/>
        </p:nvPicPr>
        <p:blipFill>
          <a:blip r:embed="rId1"/>
          <a:stretch/>
        </p:blipFill>
        <p:spPr>
          <a:xfrm>
            <a:off x="731880" y="893880"/>
            <a:ext cx="79246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07B4-EEFD-4056-AF42-2CFB46CB8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: Top-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217188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2"/>
          <p:cNvSpPr/>
          <p:nvPr/>
        </p:nvSpPr>
        <p:spPr>
          <a:xfrm>
            <a:off x="26575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13"/>
          <p:cNvSpPr/>
          <p:nvPr/>
        </p:nvSpPr>
        <p:spPr>
          <a:xfrm>
            <a:off x="4114800" y="5410080"/>
            <a:ext cx="4419720" cy="533520"/>
          </a:xfrm>
          <a:custGeom>
            <a:avLst/>
            <a:gdLst>
              <a:gd name="textAreaLeft" fmla="*/ 34560 w 4419720"/>
              <a:gd name="textAreaRight" fmla="*/ 4385160 w 4419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78830" h="21600">
                <a:moveTo>
                  <a:pt x="0" y="0"/>
                </a:moveTo>
                <a:lnTo>
                  <a:pt x="178830" y="0"/>
                </a:lnTo>
                <a:lnTo>
                  <a:pt x="178830" y="21600"/>
                </a:lnTo>
                <a:lnTo>
                  <a:pt x="0" y="21600"/>
                </a:lnTo>
                <a:close/>
              </a:path>
              <a:path fill="lightenLess" w="178830" h="21600">
                <a:moveTo>
                  <a:pt x="0" y="0"/>
                </a:moveTo>
                <a:lnTo>
                  <a:pt x="178830" y="0"/>
                </a:lnTo>
                <a:lnTo>
                  <a:pt x="177430" y="1400"/>
                </a:lnTo>
                <a:lnTo>
                  <a:pt x="1400" y="1400"/>
                </a:lnTo>
                <a:close/>
              </a:path>
              <a:path fill="darken" w="178830" h="21600">
                <a:moveTo>
                  <a:pt x="178830" y="0"/>
                </a:moveTo>
                <a:lnTo>
                  <a:pt x="178830" y="21600"/>
                </a:lnTo>
                <a:lnTo>
                  <a:pt x="177430" y="20200"/>
                </a:lnTo>
                <a:lnTo>
                  <a:pt x="177430" y="1400"/>
                </a:lnTo>
                <a:close/>
              </a:path>
              <a:path fill="darkenLess" w="178830" h="21600">
                <a:moveTo>
                  <a:pt x="17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30" y="20200"/>
                </a:lnTo>
                <a:close/>
              </a:path>
              <a:path fill="lighten" w="17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Book Antiqua"/>
              </a:rPr>
              <a:t>A Skeleton for printCale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4"/>
          <p:cNvSpPr/>
          <p:nvPr/>
        </p:nvSpPr>
        <p:spPr>
          <a:xfrm>
            <a:off x="304920" y="1066680"/>
            <a:ext cx="853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op-down approach is to implement one method in the structure chart at a time from the top to the bottom. Stubs can be used for the methods waiting to be implemented. A stub is a simple but incomplete version of a method. The use of stubs enables you to test invoking the method from a caller. Implement the main method first and then use a stub for the printMonth method. For example, let printMonth display the year and the month in the stub. Thus, your program may begin like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352F-06F9-4875-BFBB-B4AA18674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: Botto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217188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26575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304920" y="106668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-up approach is to implement one method in the structure chart at a time from the bottom to the top. For each method implemented, write a test program to test it. Both top-down and bottom-up methods are fine. Both approaches implement the methods incrementally and help to isolate programming errors and makes debugging easy. Sometimes, they can be us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1AA7-81B5-4AD6-A0EA-DA6743BA2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Stepwise Refine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217188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26575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309600" y="1201680"/>
            <a:ext cx="8534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r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s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Developing, Debugging, and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acilitating Team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BFB7-E493-440B-A5D5-1704EBACA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1143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is a collection of statements that are grouped together to perform an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08628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2771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2085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2085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15"/>
          <p:cNvGraphicFramePr/>
          <p:nvPr/>
        </p:nvGraphicFramePr>
        <p:xfrm>
          <a:off x="231840" y="2546280"/>
          <a:ext cx="864216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46280"/>
                    <a:ext cx="864216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629F-ADBF-4660-89F2-6ED3EAB2D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 Sign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04920" y="1143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thod sign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combination of the method name and the parameter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08628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1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0858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2085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085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12"/>
          <p:cNvGraphicFramePr/>
          <p:nvPr/>
        </p:nvGraphicFramePr>
        <p:xfrm>
          <a:off x="231840" y="2546280"/>
          <a:ext cx="864216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546280"/>
                    <a:ext cx="864216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3"/>
          <p:cNvSpPr/>
          <p:nvPr/>
        </p:nvSpPr>
        <p:spPr>
          <a:xfrm>
            <a:off x="3189240" y="3505320"/>
            <a:ext cx="2535120" cy="423720"/>
          </a:xfrm>
          <a:prstGeom prst="rect">
            <a:avLst/>
          </a:prstGeom>
          <a:solidFill>
            <a:srgbClr val="cbcbcb">
              <a:alpha val="2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Y. Daniel Liang</dc:creator>
  <dc:description/>
  <dc:language>en-US</dc:language>
  <cp:lastModifiedBy>admin</cp:lastModifiedBy>
  <dcterms:modified xsi:type="dcterms:W3CDTF">2018-02-09T07:41:14Z</dcterms:modified>
  <cp:revision>213</cp:revision>
  <dc:subject/>
  <dc:title>Chapter 4 Methods</dc:title>
</cp:coreProperties>
</file>