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3FD5-8BD8-4571-9879-DDC9C8C800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3B4F-5580-45BD-BDAD-00459AF2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332D-A052-4120-B9C0-1CCA29D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0413-6EC0-4011-A2A6-FE8FBDDCB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C845D-7CB8-4DF7-AEEE-D8C336CF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07672-A444-45F7-A765-9DAA253D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DEF76-4128-44CB-A9F1-E4351046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0D6F4-5648-45BD-B0DF-6530806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D736-C85C-4EDD-BACA-D91AD2C4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0216B-C5D6-4CD8-8935-4A2EBF6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26F3-2B4A-4B6A-8689-5CCE612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4AE7-716E-48CD-BF5C-C93B3AB8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C2F4-7735-47F5-A39D-006EDAF1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D0771-0485-47C5-8790-742BCB5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F6859-1756-4957-93C0-8C86C373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4D8B1-EB97-446F-A954-1ACF9149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68680-84DD-4B6F-B6D3-9D7F3566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F0D9-729B-4A85-99AB-21C982A7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E573-F9A5-442E-8B4C-D7ED90B4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0868-21B8-4BE6-A197-773CE982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56BE-38F7-4BBF-8B0E-03F23B04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FD15-C4A9-4908-82CC-5AA07F08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D805-D525-4EBC-B58D-6EDE4F99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A199-FE40-4A53-A53B-0021536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BE7A-FB57-46F3-AF73-217E83A6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Eleventh Edition, (c) 2018 Pearson Education, Ltd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ED24-9A58-44F0-9F6E-98290F7B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iveexample.pearsoncmg.com/html/TestAVLTree.html" TargetMode="External"/><Relationship Id="rId3" Type="http://schemas.openxmlformats.org/officeDocument/2006/relationships/hyperlink" Target="html/TestAVLTree.bat" TargetMode="External"/><Relationship Id="rId4" Type="http://schemas.openxmlformats.org/officeDocument/2006/relationships/hyperlink" Target="https://liveexample.pearsoncmg.com/html/AVLTree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liveexample.pearsoncmg.com/dsanimation/AVLTree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587-7B90-4ACC-A36C-48623F62A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6 AVL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109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109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83A-1F66-4AB7-BAE4-059E400E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85840"/>
            <a:ext cx="868680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 imbalance and LR rotat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04920" y="9907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R 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R im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at a node A such that A has a balance factor -2 and a left child B with a balance factor +1. Assume B’s right child is C. This type of imbalance can be fixed by performing a double rotation (first a single left rotation at B and then a single right rotation at 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3"/>
          <p:cNvGraphicFramePr/>
          <p:nvPr/>
        </p:nvGraphicFramePr>
        <p:xfrm>
          <a:off x="685800" y="3276720"/>
          <a:ext cx="39625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9625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6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15"/>
          <p:cNvGraphicFramePr/>
          <p:nvPr/>
        </p:nvGraphicFramePr>
        <p:xfrm>
          <a:off x="4648320" y="3276720"/>
          <a:ext cx="3733560" cy="30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276720"/>
                    <a:ext cx="373356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1B0-4F76-4866-B083-14CC6F152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L imbalance and RL rotat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914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L 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 im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at a node A such that A has a balance factor +2 and a right child B with a balance factor -1. Assume B’s left child is C. This type of imbalance can be fixed by performing a double rotation (first a single right rotation at B and then a single left rotation at 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14"/>
          <p:cNvGraphicFramePr/>
          <p:nvPr/>
        </p:nvGraphicFramePr>
        <p:xfrm>
          <a:off x="609480" y="3276720"/>
          <a:ext cx="411480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76720"/>
                    <a:ext cx="411480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7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4724280" y="3276720"/>
          <a:ext cx="3810240" cy="31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81024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3" descr=""/>
          <p:cNvPicPr/>
          <p:nvPr/>
        </p:nvPicPr>
        <p:blipFill>
          <a:blip r:embed="rId1"/>
          <a:stretch/>
        </p:blipFill>
        <p:spPr>
          <a:xfrm>
            <a:off x="152280" y="1682640"/>
            <a:ext cx="7467840" cy="48276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8F3-1D2E-42D9-856E-CA356BA4B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Classes for AVL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04920" y="914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VL tree is a binary tree. So you can define the AVLTree class to extend the BST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3">
            <a:hlinkClick r:id="rId2"/>
          </p:cNvPr>
          <p:cNvSpPr/>
          <p:nvPr/>
        </p:nvSpPr>
        <p:spPr>
          <a:xfrm>
            <a:off x="7467480" y="5486400"/>
            <a:ext cx="15368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AVL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0">
            <a:hlinkClick r:id="rId3"/>
          </p:cNvPr>
          <p:cNvSpPr/>
          <p:nvPr/>
        </p:nvSpPr>
        <p:spPr>
          <a:xfrm>
            <a:off x="8305920" y="601992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5">
            <a:hlinkClick r:id="rId4"/>
          </p:cNvPr>
          <p:cNvSpPr/>
          <p:nvPr/>
        </p:nvSpPr>
        <p:spPr>
          <a:xfrm>
            <a:off x="7543800" y="1600200"/>
            <a:ext cx="14000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L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9F4-EFD4-4E7E-BD3F-EA522A96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know what an AVL tree is (§26.1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understand how to rebalance a tree using the LL rotation, LR rotation, RR rotation, and RL rotation (§26.2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know how to design the AVLTree class (§26.3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insert elements into an AVL tree (§26.4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implement node rebalancing (§26.5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elete elements from an AVL tree (§26.6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implement the AVLTree class (§26.7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test the AVLTree class (§26.8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analyze the complexity of search, insert, and delete operations in AVL trees (§26.9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F87D-2446-487D-8356-4601BF63A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VL Tre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0492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rch, insertion, and deletion time for a binary tree is dependent on the height of the tree. In the worst case, the height is O(n). If a tre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fectly balan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, a complete binary tree, its height is . Can we maintain a perfectly balanced tree? Yes. But it will be costly to do so. The compromise is to maintain a well-balanced tree, i.e., the heights of two subtrees for every node are about the sa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56F-9A04-45EA-8154-31933688D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VL Tre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04920" y="12193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L trees are well-balanced. AVL trees were invented by two Russian computer scientists G. M. Adelson-Velsky and E. M. Landis in 1962. In an AVL tree, the difference between the heights of two subtrees for every node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It can be shown that the maximum height of an AVL tree is O(logn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E528-57B8-407A-8883-C46B02F93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L Tree 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04920" y="914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s://liveexample.pearsoncmg.com/dsanimation/AVLTre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9" descr=""/>
          <p:cNvPicPr/>
          <p:nvPr/>
        </p:nvPicPr>
        <p:blipFill>
          <a:blip r:embed="rId1"/>
          <a:stretch/>
        </p:blipFill>
        <p:spPr>
          <a:xfrm>
            <a:off x="417600" y="2155680"/>
            <a:ext cx="8534160" cy="41594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9">
            <a:hlinkClick r:id="rId2"/>
          </p:cNvPr>
          <p:cNvSpPr/>
          <p:nvPr/>
        </p:nvSpPr>
        <p:spPr>
          <a:xfrm>
            <a:off x="1066680" y="1484280"/>
            <a:ext cx="468360" cy="576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577">
                <a:moveTo>
                  <a:pt x="0" y="0"/>
                </a:moveTo>
                <a:lnTo>
                  <a:pt x="21600" y="0"/>
                </a:lnTo>
                <a:lnTo>
                  <a:pt x="21600" y="26577"/>
                </a:lnTo>
                <a:lnTo>
                  <a:pt x="0" y="26577"/>
                </a:lnTo>
                <a:close/>
              </a:path>
              <a:path fill="lightenLess" w="21600" h="265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7">
                <a:moveTo>
                  <a:pt x="21600" y="0"/>
                </a:moveTo>
                <a:lnTo>
                  <a:pt x="21600" y="26577"/>
                </a:lnTo>
                <a:lnTo>
                  <a:pt x="20200" y="25177"/>
                </a:lnTo>
                <a:lnTo>
                  <a:pt x="20200" y="1400"/>
                </a:lnTo>
                <a:close/>
              </a:path>
              <a:path fill="darkenLess" w="21600" h="26577">
                <a:moveTo>
                  <a:pt x="21600" y="26577"/>
                </a:moveTo>
                <a:lnTo>
                  <a:pt x="0" y="26577"/>
                </a:lnTo>
                <a:lnTo>
                  <a:pt x="1400" y="25177"/>
                </a:lnTo>
                <a:lnTo>
                  <a:pt x="20200" y="25177"/>
                </a:lnTo>
                <a:close/>
              </a:path>
              <a:path fill="lighten" w="21600" h="26577">
                <a:moveTo>
                  <a:pt x="0" y="265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7"/>
                </a:lnTo>
                <a:close/>
              </a:path>
              <a:path fill="darkenLess" w="21600" h="26577">
                <a:moveTo>
                  <a:pt x="5273" y="6473"/>
                </a:moveTo>
                <a:lnTo>
                  <a:pt x="12271" y="6473"/>
                </a:lnTo>
                <a:lnTo>
                  <a:pt x="16327" y="9972"/>
                </a:lnTo>
                <a:lnTo>
                  <a:pt x="16327" y="20103"/>
                </a:lnTo>
                <a:lnTo>
                  <a:pt x="5273" y="20103"/>
                </a:lnTo>
                <a:close/>
              </a:path>
              <a:path fill="darken" w="21600" h="26577">
                <a:moveTo>
                  <a:pt x="12271" y="6473"/>
                </a:moveTo>
                <a:lnTo>
                  <a:pt x="16327" y="9972"/>
                </a:lnTo>
                <a:lnTo>
                  <a:pt x="12271" y="997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012C-9ACA-496D-9962-87143064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858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Factor/Left-Heavy/Right-Heav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28600" y="121932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for inserting or deleting an element in an AVL tree is the same as in a regular binary search tree. The difference is that you may have to rebalance the tree after an insertion or deletion operation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lance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node is the height of its right subtree minus the height of its left subtree. A nod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balance factor is -1, 0, or 1. A nod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-heav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balance factor is -1. A nod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ght-heav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balance factor is +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186-F44E-4E23-BFA4-6CC03D15C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858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ing Tre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28600" y="12193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node is not balanced after an insertion or deletion operation, you need to rebalance it. The process of rebalancing a nod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re are four possible rot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D914-D674-42C7-A40C-BD9ED1AA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858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imbalance and LL rotat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28600" y="12193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L 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L im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at a node A such that A has a balance factor -2 and a left child B with a balance factor -1 or 0. This type of imbalance can be fixed by performing a single right rotation at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685800" y="3124080"/>
          <a:ext cx="43434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43434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1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10"/>
          <p:cNvGraphicFramePr/>
          <p:nvPr/>
        </p:nvGraphicFramePr>
        <p:xfrm>
          <a:off x="5029200" y="3124080"/>
          <a:ext cx="3336840" cy="312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124080"/>
                    <a:ext cx="33368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C7C-CBCB-4D07-A2EF-DAA282F6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858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R imbalance and RR rotat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0948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8600" y="12193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R 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R im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at a node A such that A has a balance factor +2 and a right child B with a balance factor +1 or 0. This type of imbalance can be fixed by performing a single left rotation at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609480" y="3048120"/>
          <a:ext cx="457200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8120"/>
                    <a:ext cx="4572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4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13"/>
          <p:cNvGraphicFramePr/>
          <p:nvPr/>
        </p:nvGraphicFramePr>
        <p:xfrm>
          <a:off x="5181480" y="3048120"/>
          <a:ext cx="314352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048120"/>
                    <a:ext cx="3143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dcterms:modified xsi:type="dcterms:W3CDTF">2018-02-09T07:45:47Z</dcterms:modified>
  <cp:revision>225</cp:revision>
  <dc:subject/>
  <dc:title>Chapter 9: Objects and Classes</dc:title>
</cp:coreProperties>
</file>