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E263-FAD3-4A67-9F96-921C8546CF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ED5D-9EB1-4AEC-BA5C-709A48AD99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4464-736C-4587-BEDD-69E0203A0D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1982-F47E-4FD3-BC39-37C48EEE3E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FA7D-6434-44A4-8612-08E1E0C63F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4EDE-DF2C-49A3-9B7D-38A235E2F7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855E-F306-4C1F-BF32-8A90C116AA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C54B-9872-48AE-8FBB-06FE09ECC0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9EB0-D4D7-4042-BB4C-B672822B82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8EDF-7935-4DBE-A37A-34164EA93D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E7FA-63FD-4714-B668-810F455078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4A35-33B0-47CE-845A-D8C2951554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4DD-C5E7-47C1-8BDC-CCD5F371BE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8247-4EC6-4334-83E9-E4AAACF52D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D429-226A-416E-AFF2-5C806F95A6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7675-CF45-4DAE-8F4A-E573B19B17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6D84-00C1-40FE-BD47-A5A718D46F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1311-D37D-44E4-9D72-5803AB1C60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90BC-3051-4CF8-8B8E-FC660FCDEC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8AC8-CAF1-4335-AE5C-9925FCDAC8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5CBA-B65E-4D43-89F6-6D45F3346F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0A08-1412-4653-9FC9-1A6BB9CBCB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2CBE-B01D-41F4-A34E-7CCA24B24D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6AEE-B23F-4377-AFE8-4F777D5D17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146-96FE-44F7-91C6-FB3B22395F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14E-16AB-40D9-9E76-E206178F42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A0DE-F533-4816-8FA5-81AC46107A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4AAF-A528-4BC9-808A-A1716BEFC1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CB84-926F-4EDB-B2CC-FF05F9ED69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4FE0-3E95-4AEF-9041-D49E7F6155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06FE-E134-4D97-A0C8-1AB6D80F3C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FE6C-9EED-4380-97CF-F86D744CE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88F6-DA92-4774-82E5-0ADA34CB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359A-22BC-4FC6-8545-213E2DF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6E3D-A46A-444E-AA67-72DE61F9C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598F3-CA65-440F-BE7F-879E8181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8DAF-8E5E-47F2-83C5-A6812F1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4CEDC-C241-49CA-AE63-616B9A6E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4A284-8761-4D7B-A6B8-954B68FD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DE4FD-E2D0-4D0B-AC04-D7E10275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E18B5-F87C-4014-933D-37ED2E72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C8108-11A5-4395-A6BE-8C8BA83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5812-246A-42E9-946A-8102E0A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AF041-49F3-401F-9148-DEF6C50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E7D11-4D61-49A2-9B1B-6C1EE21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4F652-736C-447E-96A4-DB097706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8AD96-438C-49F4-A253-DCA64CDD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AFA2E-D018-4D0B-BC8A-EA80B7D0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5875-E649-4DFF-A6A4-C9AD8AB6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36BC-F21C-4998-B8AC-C34E5170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D8AC-5943-4B16-9B91-9E875D51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E6BD-A4E6-45F4-91C7-40FCF140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21E3-2336-46D0-AA53-F9A02B8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A1B5-AC3E-4A24-9447-FD207A28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D2F3-EDCF-41C3-B68F-C68406E8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B406-6AA7-4642-83E9-E8ECA580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Ninth Edition, (c) 2013 Pearson Education, Inc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7650-6FB2-4E78-84DE-E57E5078D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liveexample.pearsoncmg.com/html/CheckBoxDemo.html" TargetMode="External"/><Relationship Id="rId3" Type="http://schemas.openxmlformats.org/officeDocument/2006/relationships/hyperlink" Target="html/CheckBoxDemo.ba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hyperlink" Target="https://liveexample.pearsoncmg.com/html/RadioButtonDemo.html" TargetMode="External"/><Relationship Id="rId4" Type="http://schemas.openxmlformats.org/officeDocument/2006/relationships/hyperlink" Target="html/RadioButtonDemo.ba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liveexample.pearsoncmg.com/html/TextFieldDemo.html" TargetMode="External"/><Relationship Id="rId3" Type="http://schemas.openxmlformats.org/officeDocument/2006/relationships/hyperlink" Target="html/TextFieldDemo.ba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s://liveexample.pearsoncmg.com/html/TextAreaDemo.html" TargetMode="External"/><Relationship Id="rId4" Type="http://schemas.openxmlformats.org/officeDocument/2006/relationships/hyperlink" Target="html/TextAreaDemo.ba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ml/ComboBoxDemo.ba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ml/ListViewDemo.ba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ml/ScrollBarDemo.ba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html/SliderDemo.ba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ml/TicTacToe.bat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hyperlink" Target="html/MediaDemo.ba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hyperlink" Target="html/FlagAnthem.ba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s://liveexample.pearsoncmg.com/html/LabelWithGraphic.html" TargetMode="External"/><Relationship Id="rId4" Type="http://schemas.openxmlformats.org/officeDocument/2006/relationships/hyperlink" Target="html/LabelWithGraphic.ba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liveexample.pearsoncmg.com/html/ButtonDemo.html" TargetMode="External"/><Relationship Id="rId3" Type="http://schemas.openxmlformats.org/officeDocument/2006/relationships/hyperlink" Target="html/ButtonDemo.ba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1948-50D8-40C5-ACF7-05E4A99E6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92504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FX UI Controls and Multi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6FB5-1068-4860-AC07-DF3FAE54C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CheckBox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624040" y="2543040"/>
            <a:ext cx="3895920" cy="1771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>
            <a:hlinkClick r:id="rId2"/>
          </p:cNvPr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Box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0">
            <a:hlinkClick r:id="rId3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6C86-6B62-4FFF-8ECF-11A04AFA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buttons, 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on butt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nable you to choose a single item from a group of choices. In appearance radio buttons resemble check boxes, but check boxes display a square that is either checked or blank, whereas radio buttons display a circle that is either filled (if selected) or blank (if not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295200" y="2362320"/>
            <a:ext cx="85788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685-AC11-471D-B9AC-F04F2CA4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adioButton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624040" y="2543040"/>
            <a:ext cx="3895920" cy="177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2424240" y="2543040"/>
            <a:ext cx="4295520" cy="1771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>
            <a:hlinkClick r:id="rId3"/>
          </p:cNvPr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Button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0">
            <a:hlinkClick r:id="rId4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20C1-1567-465C-BB0D-82749D452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TextFiel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field can be used to enter or display a strin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clas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Input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1" descr=""/>
          <p:cNvPicPr/>
          <p:nvPr/>
        </p:nvPicPr>
        <p:blipFill>
          <a:blip r:embed="rId1"/>
          <a:stretch/>
        </p:blipFill>
        <p:spPr>
          <a:xfrm>
            <a:off x="177840" y="1936800"/>
            <a:ext cx="8813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F795-870E-497B-829F-64BE76F6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TextField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4206960" cy="1981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>
            <a:hlinkClick r:id="rId2"/>
          </p:cNvPr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Field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0">
            <a:hlinkClick r:id="rId3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C7E-A5BB-4450-A89A-5FD8BDECC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TextAre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ables the user to enter multiple lines of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152280" y="1496880"/>
            <a:ext cx="88329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4" descr=""/>
          <p:cNvPicPr/>
          <p:nvPr/>
        </p:nvPicPr>
        <p:blipFill>
          <a:blip r:embed="rId1"/>
          <a:stretch/>
        </p:blipFill>
        <p:spPr>
          <a:xfrm>
            <a:off x="44280" y="1049400"/>
            <a:ext cx="6778800" cy="250992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440-76EC-42C3-A2F8-A9E47A259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TextArea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3433680" y="2895480"/>
            <a:ext cx="5585040" cy="19814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>
            <a:hlinkClick r:id="rId3"/>
          </p:cNvPr>
          <p:cNvSpPr/>
          <p:nvPr/>
        </p:nvSpPr>
        <p:spPr>
          <a:xfrm>
            <a:off x="5791320" y="5943600"/>
            <a:ext cx="17492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Area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657600" y="5943600"/>
            <a:ext cx="20001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0">
            <a:hlinkClick r:id="rId4"/>
          </p:cNvPr>
          <p:cNvSpPr/>
          <p:nvPr/>
        </p:nvSpPr>
        <p:spPr>
          <a:xfrm>
            <a:off x="7620120" y="59436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F0EF-8F4B-4C22-B170-CAF0A637A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ComboBo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05228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o box, also known as a choice list or drop-down list, contains a list of items from which the user can ch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174600" y="1998720"/>
            <a:ext cx="879480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81B-A841-47A5-A4E9-60B765BE1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ComboBox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04920" y="1143000"/>
            <a:ext cx="86868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lets users view an image and a description of a country's flag by selecting the country from a combo box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798640" y="2895480"/>
            <a:ext cx="4830840" cy="19814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oBox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0">
            <a:hlinkClick r:id="rId2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3ED4-FC0B-474B-B9F3-E4420635D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List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ist vi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component that performs basically the same function as a combo box, but it enables the user to choose a single value or multiple values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202392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9" descr=""/>
          <p:cNvPicPr/>
          <p:nvPr/>
        </p:nvPicPr>
        <p:blipFill>
          <a:blip r:embed="rId1"/>
          <a:stretch/>
        </p:blipFill>
        <p:spPr>
          <a:xfrm>
            <a:off x="9360" y="2438280"/>
            <a:ext cx="91440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2A3-247F-45DC-B6F5-4A1480AFC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aphical user interface (GUI) makes a system user-friendly and easy to use. Creating a GUI requires creativity and knowledge of how GUI components work. Since the GUI components in Java are very flexible and versatile, you can create a wide assortment of useful user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chapters briefly introduced several GUI components. This chapter introduces the frequently used GUI components in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800" y="905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1800" y="2064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800" y="32155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A95-5442-4B1C-ADA6-B9B5C6717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: Using ListView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353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gives a program that lets users select countries in a list and display the flags of the selected countries in the labe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9" descr=""/>
          <p:cNvPicPr/>
          <p:nvPr/>
        </p:nvPicPr>
        <p:blipFill>
          <a:blip r:embed="rId1"/>
          <a:stretch/>
        </p:blipFill>
        <p:spPr>
          <a:xfrm>
            <a:off x="3809880" y="1446120"/>
            <a:ext cx="5167440" cy="25146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View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0">
            <a:hlinkClick r:id="rId2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F9C6-15E3-4A75-80D8-374B23CF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crollBa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roll 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control that enables the user to select from a range of values. The scrollbar appears in two styl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02392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0" y="1838160"/>
            <a:ext cx="9067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FABB-0814-427D-9395-6F4991572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 Bar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7" descr=""/>
          <p:cNvPicPr/>
          <p:nvPr/>
        </p:nvPicPr>
        <p:blipFill>
          <a:blip r:embed="rId1"/>
          <a:stretch/>
        </p:blipFill>
        <p:spPr>
          <a:xfrm>
            <a:off x="209520" y="1500120"/>
            <a:ext cx="87249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D838-506D-4556-9E7A-A1B6FE119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Using Scrollb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uses horizontal and vertical scrollbars to control a message displayed on a panel. The horizontal scrollbar is used to move the message to the left or the right, and the vertical scrollbar to move it up and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1"/>
          <a:stretch/>
        </p:blipFill>
        <p:spPr>
          <a:xfrm>
            <a:off x="4683240" y="1447920"/>
            <a:ext cx="4233600" cy="17524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8"/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ollBar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10">
            <a:hlinkClick r:id="rId2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5B3-32B2-476D-BED4-7A45FB412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Slid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r is similar to ScrollBar, but Slider has more properties and can appear in many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02392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202392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1" descr=""/>
          <p:cNvPicPr/>
          <p:nvPr/>
        </p:nvPicPr>
        <p:blipFill>
          <a:blip r:embed="rId1"/>
          <a:stretch/>
        </p:blipFill>
        <p:spPr>
          <a:xfrm>
            <a:off x="38160" y="2057400"/>
            <a:ext cx="9067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66D7-7901-4E47-B194-4138BDF9D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Using Sli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write the preceding program using the sliders to control a message displayed on a panel instead of using scroll b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25718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4191120" y="1452600"/>
            <a:ext cx="4789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DD23-C9F2-4E90-9CC5-09D3A11BA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Bounce Ba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 15.17 gives a program that displays a bouncing ball. You can add a slider to control the speed of the ball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058920" cy="1752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3068640" cy="1752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6400800" y="5486400"/>
            <a:ext cx="15746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der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0">
            <a:hlinkClick r:id="rId3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533600" y="1305000"/>
            <a:ext cx="2606760" cy="167616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6E93-B1E7-4B88-B0D5-0F6198E92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Study: TicTacT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77020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216684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28004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34434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419720" y="1305000"/>
            <a:ext cx="2624040" cy="1676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1504800" y="3836880"/>
          <a:ext cx="628020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4800" y="3836880"/>
                    <a:ext cx="628020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Line 23"/>
          <p:cNvSpPr/>
          <p:nvPr/>
        </p:nvSpPr>
        <p:spPr>
          <a:xfrm flipH="1" flipV="1">
            <a:off x="2095200" y="1904760"/>
            <a:ext cx="190440" cy="2971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3580920" y="2666520"/>
            <a:ext cx="559080" cy="2210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CC8-C5FC-4C4F-BA67-02E7A6420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Study: TicTacToe,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2770200" y="25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234324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12" descr=""/>
          <p:cNvPicPr/>
          <p:nvPr/>
        </p:nvPicPr>
        <p:blipFill>
          <a:blip r:embed="rId1"/>
          <a:stretch/>
        </p:blipFill>
        <p:spPr>
          <a:xfrm>
            <a:off x="298440" y="1943280"/>
            <a:ext cx="8547120" cy="29718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cTac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0">
            <a:hlinkClick r:id="rId2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2B5B-5FEE-440B-BC29-F535FCFE2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Med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obtain the source of the media,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Play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play and control the media, an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to display the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202392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1" descr=""/>
          <p:cNvPicPr/>
          <p:nvPr/>
        </p:nvPicPr>
        <p:blipFill>
          <a:blip r:embed="rId1"/>
          <a:stretch/>
        </p:blipFill>
        <p:spPr>
          <a:xfrm>
            <a:off x="22320" y="2238480"/>
            <a:ext cx="89964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78DF-AE1D-456F-876F-81D43D2A6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graphical user interfaces with various user-interface controls (§§16.2–16.1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label with text and graphic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and explore properties in the abstra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(§16.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button with text and graphic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and set a handler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On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in the abstra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ttonBa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(§16.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check box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(§16.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radio button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dioBut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and group radio buttons using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ggleGro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§16.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enter data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xtFie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and password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sswordFie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(§16.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enter data in multiple lines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(§16.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elect a single item us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boBo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§16.8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elect a single or multiple items us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§16.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elect a range of values us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ollB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§16.1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elect a range of values us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i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explore differences betwe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ollB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i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§16.1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develop a tic-tac-toe game (§16.1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view and play video and audio using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aP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a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§16.1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develop a case study for showing the national flag and play anthem (§16.1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06208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4F30-6247-4913-93BA-608CFF343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MediaPlay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Play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playes and controls the media with properties such 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ycle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Du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02392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165240" y="2057400"/>
            <a:ext cx="8743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4E9-B34B-4D23-922B-8817E109C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Media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is a subclas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provides a view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ing played by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Play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provides the properties for viewing the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202392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13" descr=""/>
          <p:cNvPicPr/>
          <p:nvPr/>
        </p:nvPicPr>
        <p:blipFill>
          <a:blip r:embed="rId1"/>
          <a:stretch/>
        </p:blipFill>
        <p:spPr>
          <a:xfrm>
            <a:off x="122400" y="2590920"/>
            <a:ext cx="889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BC0E-D77A-4514-A130-6F75ABC4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Using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267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displays a video in a view. You can use the play/pause button to play or pause the video and use the rewind button to restart the video, and use the slider to control the volume of the aud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4535640" y="1351080"/>
            <a:ext cx="4319280" cy="3200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"/>
          <p:cNvPicPr/>
          <p:nvPr/>
        </p:nvPicPr>
        <p:blipFill>
          <a:blip r:embed="rId2"/>
          <a:stretch/>
        </p:blipFill>
        <p:spPr>
          <a:xfrm>
            <a:off x="623880" y="4952880"/>
            <a:ext cx="7823160" cy="4064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6172200" y="5670720"/>
            <a:ext cx="175248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0">
            <a:hlinkClick r:id="rId3"/>
          </p:cNvPr>
          <p:cNvSpPr/>
          <p:nvPr/>
        </p:nvSpPr>
        <p:spPr>
          <a:xfrm>
            <a:off x="8097840" y="569448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7E62-3440-49AC-A2E5-8E492D886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ase Study: National Flags and Anth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543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se study presents a program that displays a nation’s flag and plays its an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55480" y="2666880"/>
            <a:ext cx="2302200" cy="1919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3137040" y="2666880"/>
            <a:ext cx="2303280" cy="1919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3"/>
          <a:stretch/>
        </p:blipFill>
        <p:spPr>
          <a:xfrm>
            <a:off x="5715000" y="2666880"/>
            <a:ext cx="2413080" cy="19195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8"/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gAn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10">
            <a:hlinkClick r:id="rId4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F10-7F7C-4388-B467-C1922CE3F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quently Used UI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1440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28600" y="43434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out this book, th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b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name reference variable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word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o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oll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i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aP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139680" y="914400"/>
            <a:ext cx="8928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B813-9A30-412F-B8D0-C3508D51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Label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display area for a short text, a node, or both. It is often used to label other controls (usually text fields). Labels and buttons share many common properties. These common properties are defin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1"/>
          <a:stretch/>
        </p:blipFill>
        <p:spPr>
          <a:xfrm>
            <a:off x="73080" y="2743200"/>
            <a:ext cx="8997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69D8-E880-4CDB-ACBA-2581FA68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bel class defines labe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4" descr=""/>
          <p:cNvPicPr/>
          <p:nvPr/>
        </p:nvPicPr>
        <p:blipFill>
          <a:blip r:embed="rId1"/>
          <a:stretch/>
        </p:blipFill>
        <p:spPr>
          <a:xfrm>
            <a:off x="2241720" y="1447920"/>
            <a:ext cx="665784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2"/>
          <a:stretch/>
        </p:blipFill>
        <p:spPr>
          <a:xfrm>
            <a:off x="258840" y="3200400"/>
            <a:ext cx="8470800" cy="2438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8">
            <a:hlinkClick r:id="rId3"/>
          </p:cNvPr>
          <p:cNvSpPr/>
          <p:nvPr/>
        </p:nvSpPr>
        <p:spPr>
          <a:xfrm>
            <a:off x="5599080" y="5867280"/>
            <a:ext cx="2324160" cy="38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WithGrap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">
            <a:hlinkClick r:id="rId4"/>
          </p:cNvPr>
          <p:cNvSpPr/>
          <p:nvPr/>
        </p:nvSpPr>
        <p:spPr>
          <a:xfrm>
            <a:off x="8024760" y="5867280"/>
            <a:ext cx="698400" cy="38124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3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3" y="20200"/>
                </a:lnTo>
                <a:lnTo>
                  <a:pt x="38153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3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8D1D-57E2-415C-8454-3594C48B4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ButtonBase and Butt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trol that triggers an action event when clicked. JavaFX provides regular buttons, toggle buttons, check box buttons, and radio buttons. The common features of these buttons are defin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ton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1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159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EA9-BA92-46AF-B409-2729C4E2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Button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600280" y="2562120"/>
            <a:ext cx="3943440" cy="17337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>
            <a:hlinkClick r:id="rId2"/>
          </p:cNvPr>
          <p:cNvSpPr/>
          <p:nvPr/>
        </p:nvSpPr>
        <p:spPr>
          <a:xfrm>
            <a:off x="5651640" y="5486400"/>
            <a:ext cx="2323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">
            <a:hlinkClick r:id="rId3"/>
          </p:cNvPr>
          <p:cNvSpPr/>
          <p:nvPr/>
        </p:nvSpPr>
        <p:spPr>
          <a:xfrm>
            <a:off x="8077320" y="5486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A817-E88E-4E6B-85BA-CF08C781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CheckBo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for the user to make a selection. Li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erits all the properties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TextG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ton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181440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0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dcterms:modified xsi:type="dcterms:W3CDTF">2018-02-09T07:43:20Z</dcterms:modified>
  <cp:revision>253</cp:revision>
  <dc:subject/>
  <dc:title>Chapter 11 Creating User Interfaces</dc:title>
</cp:coreProperties>
</file>