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925B-AD62-446D-942C-FDC38FA2F5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B1CC-D0C2-4F4D-B72F-3077485B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4677-D90C-496B-9E13-0F3B4B7A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87CE-1FD9-42F7-8433-841DF3D47C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B553D-12A9-446C-B04F-5691008B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011F4-C499-481B-A956-E061136E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E3F43-B733-41E8-9A23-A6CE6630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FE1D2-4F73-4AA3-B0E0-1109AF29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5774D-0504-4742-A3B3-61C03DDD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57F80-68C4-416D-95C5-43552E4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6781A-3B9C-40E4-9E1D-EFA0E0A7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B569-1B1F-43E8-8593-F0C0868B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F7051-B427-459F-97FC-754C2549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A060C-B4E5-41D4-B718-B37EF8F4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2AAE4-1D7E-4D3F-9962-5BAB0F65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F4604-AD61-404B-BC59-26B6A456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6BBB2-DA88-4543-9DCB-A8736756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CB70-A1C6-4710-9DB1-16C36A13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4717-B7D9-4E01-9B41-C3B22AD6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35E4-1C4C-484F-A910-E104C7DA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0686-6094-4883-97AE-C15D5E9A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2ADC-CBEE-4F18-B078-518042E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EC30-2804-443B-945E-F83B475C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B05E-FD29-4219-AF7A-18007CC5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2021040"/>
                  <a:gd name="textAreaBottom" fmla="*/ 2021400 h 2021040"/>
                </a:gdLst>
                <a:ahLst/>
                <a:rect l="textAreaLeft" t="textAreaTop" r="textAreaRight" b="textAreaBottom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669960"/>
                    <a:gd name="textAreaBottom" fmla="*/ 669960 h 669960"/>
                  </a:gdLst>
                  <a:ahLst/>
                  <a:rect l="textAreaLeft" t="textAreaTop" r="textAreaRight" b="textAreaBottom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>
                    <a:gd name="textAreaLeft" fmla="*/ 0 w 1241280"/>
                    <a:gd name="textAreaRight" fmla="*/ 1241640 w 1241280"/>
                    <a:gd name="textAreaTop" fmla="*/ 0 h 878040"/>
                    <a:gd name="textAreaBottom" fmla="*/ 878400 h 878040"/>
                  </a:gdLst>
                  <a:ahLst/>
                  <a:rect l="textAreaLeft" t="textAreaTop" r="textAreaRight" b="textAreaBottom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BB4B-D5BA-44AD-A393-8239A61B6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Eleventh Edition, (c) 2018 Pearson Education, Lt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2809800"/>
                    <a:gd name="textAreaBottom" fmla="*/ 2810160 h 2809800"/>
                  </a:gdLst>
                  <a:ahLst/>
                  <a:rect l="textAreaLeft" t="textAreaTop" r="textAreaRight" b="textAreaBottom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>
                    <a:gd name="textAreaLeft" fmla="*/ 0 w 715680"/>
                    <a:gd name="textAreaRight" fmla="*/ 716040 w 71568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>
                    <a:gd name="textAreaLeft" fmla="*/ 0 w 1728720"/>
                    <a:gd name="textAreaRight" fmla="*/ 1729080 w 1728720"/>
                    <a:gd name="textAreaTop" fmla="*/ 0 h 1220760"/>
                    <a:gd name="textAreaBottom" fmla="*/ 1220760 h 1220760"/>
                  </a:gdLst>
                  <a:ahLst/>
                  <a:rect l="textAreaLeft" t="textAreaTop" r="textAreaRight" b="textAreaBottom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351000"/>
                    <a:gd name="textAreaBottom" fmla="*/ 351360 h 351000"/>
                  </a:gdLst>
                  <a:ahLst/>
                  <a:rect l="textAreaLeft" t="textAreaTop" r="textAreaRight" b="textAreaBottom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Eleventh Edition, (c) 2018 Pearson Education, Ltd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F00A-3C0A-47EF-BFCB-C297477CF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junit/file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03CF-11FB-41D9-92F2-1EAF24622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4 Testing Using J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109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109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EBB6-AE26-450B-9A07-68C1FFF17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284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now what JUnit is and how JUnit works (§44.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nd run a JUnit test class from the command window (§44.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nd run a JUnit test class from NetBeans (§44.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nd run a JUnit test class from Eclipse (§44.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1969-DF8E-431A-B093-8805A4738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it Bas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04920" y="9144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 facto framework for testing Java programs. JUnit is a third-party open source library packed in a jar file. The jar file contains a tool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is used to run test programs. Suppose you have a class named A. To test this class, you write a test class named ATest. This test class,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ains the methods you write for testing class A. The test runner executes ATest to generate a test report, as shown in Figure 44.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5"/>
          <p:cNvGraphicFramePr/>
          <p:nvPr/>
        </p:nvGraphicFramePr>
        <p:xfrm>
          <a:off x="609480" y="3886200"/>
          <a:ext cx="800100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800100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12A5-6310-4797-99FA-6D5B85480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and Running JUn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80880" y="44956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est if this environment variable is set correctly, open a new command window, and type the following comm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80880" y="53341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org.junit.runner.JUnit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>
            <a:hlinkClick r:id="rId1"/>
          </p:cNvPr>
          <p:cNvSpPr/>
          <p:nvPr/>
        </p:nvSpPr>
        <p:spPr>
          <a:xfrm>
            <a:off x="304920" y="12952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see how JUnit works from an example. To create the example, first you need to download JUnit from </a:t>
            </a:r>
            <a:r>
              <a:rPr b="0" lang="en-US" sz="2400" spc="-1" strike="noStrike" u="sng">
                <a:solidFill>
                  <a:srgbClr val="00b050"/>
                </a:solidFill>
                <a:uFillTx/>
                <a:latin typeface="Times New Roman"/>
              </a:rPr>
              <a:t>http://sourceforge.net/projects/junit/files/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present, the latest version is junit-4.10.jar. Download this file to c:\book\lib and add it to the classpath environment variable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0492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classpath=.;%classpath%;c:\book\lib\junit-4.10.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373F-A6CE-4C99-97E1-BAFA7B6C6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JUnit Test Cla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04920" y="914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JUnit, create a test class. By convention, if the class to be tested is named A, the test class should be named ATest. A simple template of a test class may look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80880" y="2209680"/>
            <a:ext cx="84582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package myte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import org.juni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import static org.junit.Asser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public class ATest {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@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public void m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// Write a test meth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@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public void m2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// Write another test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@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public void setUp() throws Exce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// Common objects used by test methods may be set up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FC4A-786B-48C9-9447-C0678483C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815328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 the Te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2666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org.junit.runner.JUnitCore mytest.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un the test from the console, use the following comm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9C2E-F1B3-49C7-AABB-D82C6C71C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Array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28600" y="685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ing 44.1 is an example of a test class for testing java.util.Array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228600" y="1143000"/>
            <a:ext cx="891540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package mytes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import org.junit.*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import static org.junit.Assert.*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import java.util.*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public class ArrayListTest 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private ArrayList&lt;String&gt; list = new ArrayList&lt;String&gt;(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@Bef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public void setUp() throws Exception 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@T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public void testInsertion() 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list.add("Beijing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assertEquals("Beijing", list.get(0)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list.add("Shanghai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list.add("Hongkong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assertEquals("Hongkong", list.get(list.size() - 1));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}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@T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public void testDeletion() 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list.clear(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assertTrue(list.isEmpty());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list.add("A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list.add("B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list.add("C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list.remove("B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assertEquals(2, list.size());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}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44E9-46A0-4DD8-8860-232CACB30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the Loa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228600" y="914400"/>
            <a:ext cx="861048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ckage mytes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mport org.junit.*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mport static org.junit.Assert.*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ublic class LoanTest {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@Bef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ublic void setUp() throws Exception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@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ublic void testPaymentMethod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uble annualInterestRate = 2.5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numberOfYears = 5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uble loanAmount = 100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n loan = new Loan(annualInterestRate, numberOfYear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nAmoun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ertTrue(loan.getMonthlyPayment() =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etMonthlyPayment(annualInterestRate, numberOfYear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nAmou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ertTrue(loan.getTotalPayment() =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etTotalPayment(annualInterestRate, numberOfYear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nAmou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* Find monthly payment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vate double getMonthlyPayment(double annualInterestRat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numberOfYears, double loanAmount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uble monthlyInterestRate = annualInterestRate / 120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uble monthlyPayment = loanAmount * monthlyInterestRate / (1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1 / Math.pow(1 + monthlyInterestRate, numberOfYears * 12)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monthlyPayment;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** Find total payment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ublic double getTotalPayment(double annualInterestRat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numberOfYears, double loanAmount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getMonthlyPayment(annualInterestRate, numberOfYear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nAmount) * numberOfYears * 12;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dmin</cp:lastModifiedBy>
  <dcterms:modified xsi:type="dcterms:W3CDTF">2018-02-09T07:49:35Z</dcterms:modified>
  <cp:revision>221</cp:revision>
  <dc:subject/>
  <dc:title>Chapter 9: Objects and Classes</dc:title>
</cp:coreProperties>
</file>