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88477-F8AF-4878-98F3-9944212A95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61066-D560-4002-B836-9CEA08FC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B9E2B-4388-4979-803E-F23D8FEB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AED61-600C-46DF-B772-691AC7E237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AE2D2-1571-476D-A6AB-4F28E158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7410C-559B-4ED2-9C83-4BF757D3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B52EA-5D34-4FC9-955D-48C14755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F2CC8-D0F5-4144-9D19-1D9FC542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11E27-78F2-40D5-9D28-5E1B952A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9B113-F6C4-4D3C-AE68-9031D528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57385-4CC2-43FE-876C-FE82253F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96C30-DB17-42CF-928B-00AA3351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FA2F7-0C3C-44BB-ACC2-1D608669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95DBB-90A6-4AAA-9866-E3107EB4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6DE20-A747-4412-94AF-4BF69BAF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60B11-064F-40F6-A76D-8614B9FF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DFF07-4C85-465C-8336-53652358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42008-34FD-4F3E-BD3A-FAE0E6AB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77A0D-CEC1-4073-81B4-B34667DA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CDE85-752D-403E-99E2-66B0BC51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A06F6-95C7-4662-B493-87203151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55F6D-498E-487F-9362-16FD1D2A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2BBD8-D382-49B7-8DD7-DC72164B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B7359-7831-483A-A5E9-ECB8B53A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>
                  <a:gd name="textAreaLeft" fmla="*/ 0 w 1641600"/>
                  <a:gd name="textAreaRight" fmla="*/ 1641960 w 1641600"/>
                  <a:gd name="textAreaTop" fmla="*/ 0 h 2021040"/>
                  <a:gd name="textAreaBottom" fmla="*/ 2021400 h 2021040"/>
                </a:gdLst>
                <a:ahLst/>
                <a:rect l="textAreaLeft" t="textAreaTop" r="textAreaRight" b="textAreaBottom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>
                    <a:gd name="textAreaLeft" fmla="*/ 0 w 514080"/>
                    <a:gd name="textAreaRight" fmla="*/ 514440 w 514080"/>
                    <a:gd name="textAreaTop" fmla="*/ 0 h 669960"/>
                    <a:gd name="textAreaBottom" fmla="*/ 669960 h 669960"/>
                  </a:gdLst>
                  <a:ahLst/>
                  <a:rect l="textAreaLeft" t="textAreaTop" r="textAreaRight" b="textAreaBottom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>
                    <a:gd name="textAreaLeft" fmla="*/ 0 w 133560"/>
                    <a:gd name="textAreaRight" fmla="*/ 133920 w 13356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15560"/>
                    <a:gd name="textAreaBottom" fmla="*/ 115920 h 115560"/>
                  </a:gdLst>
                  <a:ahLst/>
                  <a:rect l="textAreaLeft" t="textAreaTop" r="textAreaRight" b="textAreaBottom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>
                    <a:gd name="textAreaLeft" fmla="*/ 0 w 291960"/>
                    <a:gd name="textAreaRight" fmla="*/ 291960 w 291960"/>
                    <a:gd name="textAreaTop" fmla="*/ 0 h 245880"/>
                    <a:gd name="textAreaBottom" fmla="*/ 246240 h 245880"/>
                  </a:gdLst>
                  <a:ahLst/>
                  <a:rect l="textAreaLeft" t="textAreaTop" r="textAreaRight" b="textAreaBottom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>
                    <a:gd name="textAreaLeft" fmla="*/ 0 w 1241280"/>
                    <a:gd name="textAreaRight" fmla="*/ 1241640 w 1241280"/>
                    <a:gd name="textAreaTop" fmla="*/ 0 h 878040"/>
                    <a:gd name="textAreaBottom" fmla="*/ 878400 h 878040"/>
                  </a:gdLst>
                  <a:ahLst/>
                  <a:rect l="textAreaLeft" t="textAreaTop" r="textAreaRight" b="textAreaBottom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>
                    <a:gd name="textAreaLeft" fmla="*/ 0 w 250920"/>
                    <a:gd name="textAreaRight" fmla="*/ 250920 w 25092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252720"/>
                    <a:gd name="textAreaBottom" fmla="*/ 253080 h 252720"/>
                  </a:gdLst>
                  <a:ahLst/>
                  <a:rect l="textAreaLeft" t="textAreaTop" r="textAreaRight" b="textAreaBottom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28C0-5886-4C37-99B1-2CCE0E669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1676520" y="643248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Eleventh Edition, (c) 2018 Pearson Education, Ltd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>
                    <a:gd name="textAreaLeft" fmla="*/ 0 w 2286000"/>
                    <a:gd name="textAreaRight" fmla="*/ 2286360 w 2286000"/>
                    <a:gd name="textAreaTop" fmla="*/ 0 h 2809800"/>
                    <a:gd name="textAreaBottom" fmla="*/ 2810160 h 2809800"/>
                  </a:gdLst>
                  <a:ahLst/>
                  <a:rect l="textAreaLeft" t="textAreaTop" r="textAreaRight" b="textAreaBottom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>
                    <a:gd name="textAreaLeft" fmla="*/ 0 w 81000"/>
                    <a:gd name="textAreaRight" fmla="*/ 81360 w 8100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>
                    <a:gd name="textAreaLeft" fmla="*/ 0 w 715680"/>
                    <a:gd name="textAreaRight" fmla="*/ 716040 w 715680"/>
                    <a:gd name="textAreaTop" fmla="*/ 0 h 932040"/>
                    <a:gd name="textAreaBottom" fmla="*/ 932400 h 932040"/>
                  </a:gdLst>
                  <a:ahLst/>
                  <a:rect l="textAreaLeft" t="textAreaTop" r="textAreaRight" b="textAreaBottom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49040"/>
                    <a:gd name="textAreaBottom" fmla="*/ 149400 h 149040"/>
                  </a:gdLst>
                  <a:ahLst/>
                  <a:rect l="textAreaLeft" t="textAreaTop" r="textAreaRight" b="textAreaBottom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>
                    <a:gd name="textAreaLeft" fmla="*/ 0 w 125280"/>
                    <a:gd name="textAreaRight" fmla="*/ 125280 w 125280"/>
                    <a:gd name="textAreaTop" fmla="*/ 0 h 160200"/>
                    <a:gd name="textAreaBottom" fmla="*/ 160560 h 160200"/>
                  </a:gdLst>
                  <a:ahLst/>
                  <a:rect l="textAreaLeft" t="textAreaTop" r="textAreaRight" b="textAreaBottom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>
                    <a:gd name="textAreaLeft" fmla="*/ 0 w 406440"/>
                    <a:gd name="textAreaRight" fmla="*/ 406800 w 40644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>
                    <a:gd name="textAreaLeft" fmla="*/ 0 w 1728720"/>
                    <a:gd name="textAreaRight" fmla="*/ 1729080 w 1728720"/>
                    <a:gd name="textAreaTop" fmla="*/ 0 h 1220760"/>
                    <a:gd name="textAreaBottom" fmla="*/ 1220760 h 1220760"/>
                  </a:gdLst>
                  <a:ahLst/>
                  <a:rect l="textAreaLeft" t="textAreaTop" r="textAreaRight" b="textAreaBottom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>
                    <a:gd name="textAreaLeft" fmla="*/ 0 w 149400"/>
                    <a:gd name="textAreaRight" fmla="*/ 149760 w 149400"/>
                    <a:gd name="textAreaTop" fmla="*/ 0 h 249120"/>
                    <a:gd name="textAreaBottom" fmla="*/ 249480 h 249120"/>
                  </a:gdLst>
                  <a:ahLst/>
                  <a:rect l="textAreaLeft" t="textAreaTop" r="textAreaRight" b="textAreaBottom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>
                    <a:gd name="textAreaLeft" fmla="*/ 0 w 349200"/>
                    <a:gd name="textAreaRight" fmla="*/ 349560 w 34920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351000"/>
                    <a:gd name="textAreaBottom" fmla="*/ 351360 h 351000"/>
                  </a:gdLst>
                  <a:ahLst/>
                  <a:rect l="textAreaLeft" t="textAreaTop" r="textAreaRight" b="textAreaBottom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68120"/>
                    <a:gd name="textAreaBottom" fmla="*/ 168480 h 168120"/>
                  </a:gdLst>
                  <a:ahLst/>
                  <a:rect l="textAreaLeft" t="textAreaTop" r="textAreaRight" b="textAreaBottom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ng, Introduction to Java Programming, Eleventh Edition, (c) 2018 Pearson Education, Ltd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6601-4AC9-484C-B41F-90CDDD947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D28C-90FE-450E-ACF4-3DE060E67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hapter 39 JavaServer Fac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23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65BA-4142-4F12-9173-AF80B39BE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SF GUI Compon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7413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0" y="11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1371600" y="762120"/>
          <a:ext cx="6324480" cy="56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762120"/>
                    <a:ext cx="632448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C9DE-4816-4944-BAB2-108CC73EC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SF UI Contain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413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686800" cy="53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B0D9-66A2-4B2E-BEA1-6EE8CD679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9.5 Case Study: Calcu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7413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620120" cy="21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8E07-39C2-46A5-B74C-D6E59DFCF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9.6 Session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7413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7619760" cy="1855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"/>
          <p:cNvPicPr/>
          <p:nvPr/>
        </p:nvPicPr>
        <p:blipFill>
          <a:blip r:embed="rId2"/>
          <a:stretch/>
        </p:blipFill>
        <p:spPr>
          <a:xfrm>
            <a:off x="1143000" y="2819520"/>
            <a:ext cx="7543800" cy="1834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"/>
          <p:cNvPicPr/>
          <p:nvPr/>
        </p:nvPicPr>
        <p:blipFill>
          <a:blip r:embed="rId3"/>
          <a:stretch/>
        </p:blipFill>
        <p:spPr>
          <a:xfrm>
            <a:off x="457200" y="4724280"/>
            <a:ext cx="7467480" cy="18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4F2A-D257-43DD-9233-F5F661596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9.7 Validating In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17413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7"/>
          <p:cNvGraphicFramePr/>
          <p:nvPr/>
        </p:nvGraphicFramePr>
        <p:xfrm>
          <a:off x="152280" y="1295280"/>
          <a:ext cx="883944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883944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F06E-7B2B-4BF1-92FA-7AB8BEB76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194040" indent="-1940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explain what JSF is (§39.1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4040" indent="-1940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create a JSF page using NetBeans (§39.2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4040" indent="-1940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create a JSF managed bean (§39.2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4040" indent="-1940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use JSF expressions in a facelet (§39.2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4040" indent="-1940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use JSF GUI components (§39.3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4040" indent="-1940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obtain and process input from a form (§39.4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4040" indent="-1940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track sessions in application, session, view, and request scope (§39.5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4040" indent="-1940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validate input using the JSF validators (§39.6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4040" indent="-1940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bind database with facelets (§39.7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4040" indent="-19404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program using contexts and dependency injection (§39.10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4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05B6-D36F-4D76-ABF4-FE0F777F0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hat is JSF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7413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228600" y="9144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SF completely separates Web UI from Java code so the application developed using JSF is easy to debug and mai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0E35-220D-4034-A87E-DCE48EF69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JSF Proje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7413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28600" y="99072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Web project with JavaServer F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4191120" y="914400"/>
            <a:ext cx="4343400" cy="2711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2"/>
          <a:stretch/>
        </p:blipFill>
        <p:spPr>
          <a:xfrm>
            <a:off x="3657600" y="3733920"/>
            <a:ext cx="4952880" cy="26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FED1-BDCD-46B5-90FE-8FA75AF51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JSF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7413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4343400" cy="2435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2"/>
          <a:stretch/>
        </p:blipFill>
        <p:spPr>
          <a:xfrm>
            <a:off x="2133720" y="3429000"/>
            <a:ext cx="6324480" cy="29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DDB8-6E91-478C-9A83-E3C35DA3E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Basic JSF Pa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7413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28600" y="990720"/>
            <a:ext cx="8610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&lt;?xml version='1.0' encoding='UTF-8' 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&lt;!-- index.xhtml 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&lt;!DOCTYPE html PUBLIC "-//W3C//DTD XHTML 1.0 Transitional//EN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"http://www.w3.org/TR/xhtml1/DTD/xhtml1-transitional.dtd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&lt;html xmlns="http://www.w3.org/1999/xhtml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xmlns:h="http://java.sun.com/jsf/html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&lt;h: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&lt;title&gt;Facelet Title&lt;/tit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&lt;/h: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&lt;h: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Hello from Face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&lt;/h: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BE96-2B35-447A-B808-2E22A7247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ed JavaBeans for JS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7413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6477120" cy="49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0889-9651-4383-A636-90A4F5423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ed JavaBeans for JS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413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04920" y="106668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package jsf2dem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import javax.faces.bean.ManagedBea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Times New Roman"/>
              </a:rPr>
              <a:t>import javax.faces.bean.RequestScop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Times New Roman"/>
              </a:rPr>
              <a:t>@ManagedB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@RequestSco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public class TimeBean {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public String getTime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return new java.util.Date().toStrin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752480" y="487692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#{expressio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#{timeBean.tim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#{timeBean.getTime(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8BE7-791A-4AC1-A1D2-277AC8553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sting 39.3 CurrentTime.x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28600" y="1219320"/>
            <a:ext cx="8915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&lt;?xml version='1.0' encoding='UTF-8' 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&lt;!DOCTYPE html PUBLIC "-//W3C//DTD XHTML 1.0 Transitional//EN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"http://www.w3.org/TR/xhtml1/DTD/xhtml1-transitional.dtd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&lt;html xmlns="http://www.w3.org/1999/xhtml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xmlns:h="http://java.sun.com/jsf/html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&lt;h: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&lt;title&gt;Display Current Time&lt;/tit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    </a:t>
            </a:r>
            <a:r>
              <a:rPr b="0" lang="fr-FR" sz="2400" spc="-1" strike="noStrike">
                <a:solidFill>
                  <a:srgbClr val="5f5f5f"/>
                </a:solidFill>
                <a:latin typeface="Times New Roman"/>
              </a:rPr>
              <a:t>&lt;meta http-equiv="refresh" content ="60"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&lt;/h: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&lt;h: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e current time is #{timeBean.tim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&lt;/h: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admin</cp:lastModifiedBy>
  <cp:lastPrinted>1998-01-06T14:46:56Z</cp:lastPrinted>
  <dcterms:modified xsi:type="dcterms:W3CDTF">2018-02-09T07:48:20Z</dcterms:modified>
  <cp:revision>186</cp:revision>
  <dc:subject/>
  <dc:title>Learning Java</dc:title>
</cp:coreProperties>
</file>